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4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7.wmf" ContentType="image/x-wmf"/>
  <Override PartName="/ppt/media/image12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ytu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op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9363-799E-4A14-A1F7-F73E7C1FB05A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Symbol zastępczy nagłówka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ejsce Veolia Energia Poznań na rynku usług systemowych w perspektywie lat 2015 –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Symbol zastępczy daty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rszawa, 16 marca 2015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Symbol zastępczy stopki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eolia Energia Pozna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Symbol zastępczy numeru slajdu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611A-0447-4931-B0F8-621C3704675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Symbol zastępczy nagłówka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ejsce Veolia Energia Poznań na rynku usług systemowych w perspektywie lat 2015 –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Symbol zastępczy daty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rszawa, 16 marca 2015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Symbol zastępczy stopki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eolia Energia Pozna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Symbol zastępczy numeru slajdu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57AD-4BE2-4FC7-8DC5-F0674753D2C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Symbol zastępczy nagłówka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ejsce Veolia Energia Poznań na rynku usług systemowych w perspektywie lat 2015 –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Symbol zastępczy daty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rszawa, 16 marca 2015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Symbol zastępczy stopki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eolia Energia Pozna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Symbol zastępczy numeru slajdu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EDB5-9D3C-4DC5-BFDC-E79AD24A0C6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Symbol zastępczy nagłówka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ejsce Veolia Energia Poznań na rynku usług systemowych w perspektywie lat 2015 –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Symbol zastępczy daty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rszawa, 16 marca 2015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Symbol zastępczy stopki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eolia Energia Pozna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ymbol zastępczy numeru slajdu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C4EC-BA38-4760-82CB-CDF46A34C4D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Symbol zastępczy nagłówka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ejsce Veolia Energia Poznań na rynku usług systemowych w perspektywie lat 2015 –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Symbol zastępczy daty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rszawa, 16 marca 2015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Symbol zastępczy stopki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eolia Energia Pozna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ymbol zastępczy numeru slajdu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0BE7-B675-434D-B481-97EB814BC35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Symbol zastępczy nagłówka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ejsce Veolia Energia Poznań na rynku usług systemowych w perspektywie lat 2015 –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ymbol zastępczy daty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rszawa, 16 marca 2015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Symbol zastępczy stopki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eolia Energia Pozna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Symbol zastępczy numeru slajdu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9284-04E2-46E6-AB5F-3C0F1556B69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Symbol zastępczy nagłówka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ejsce Veolia Energia Poznań na rynku usług systemowych w perspektywie lat 2015 –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Symbol zastępczy daty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rszawa, 16 marca 2015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Symbol zastępczy stopki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eolia Energia Pozna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ymbol zastępczy numeru slajdu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A455-5F26-467F-9430-F4179B2B00E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Symbol zastępczy nagłówka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ejsce Veolia Energia Poznań na rynku usług systemowych w perspektywie lat 2015 –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Symbol zastępczy daty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rszawa, 16 marca 2015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Symbol zastępczy stopki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eolia Energia Pozna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Symbol zastępczy numeru slajdu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D1D9-8946-468A-8F09-D5E1618411D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Symbol zastępczy nagłówka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ejsce Veolia Energia Poznań na rynku usług systemowych w perspektywie lat 2015 –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ymbol zastępczy daty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rszawa, 16 marca 2015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ymbol zastępczy stopki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eolia Energia Pozna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Symbol zastępczy numeru slajdu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F135-C000-4DDF-A078-FC8039BAB13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Symbol zastępczy nagłówka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ejsce Veolia Energia Poznań na rynku usług systemowych w perspektywie lat 2015 –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Symbol zastępczy daty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rszawa, 16 marca 2015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Symbol zastępczy stopki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eolia Energia Pozna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Symbol zastępczy numeru slajdu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C09F-8093-43DD-AC3E-2115B3F0759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Symbol zastępczy nagłówka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ejsce Veolia Energia Poznań na rynku usług systemowych w perspektywie lat 2015 –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Symbol zastępczy daty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rszawa, 16 marca 2015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Symbol zastępczy stopki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eolia Energia Pozna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Symbol zastępczy numeru slajdu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5B05-EAF4-4B97-92B4-9D164A3ED37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Symbol zastępczy nagłówka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ejsce Veolia Energia Poznań na rynku usług systemowych w perspektywie lat 2015 –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Symbol zastępczy daty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rszawa, 16 marca 2015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Symbol zastępczy stopki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eolia Energia Pozna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Symbol zastępczy numeru slajdu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682E-64F4-4FA3-9F24-DA299911350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Symbol zastępczy nagłówka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ejsce Veolia Energia Poznań na rynku usług systemowych w perspektywie lat 2015 –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Symbol zastępczy daty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rszawa, 16 marca 2015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Symbol zastępczy stopki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eolia Energia Pozna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Symbol zastępczy numeru slajdu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FA70-AED2-48A3-8F99-55CB7618010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Symbol zastępczy nagłówka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ejsce Veolia Energia Poznań na rynku usług systemowych w perspektywie lat 2015 –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Symbol zastępczy daty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rszawa, 16 marca 2015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Symbol zastępczy stopki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eolia Energia Pozna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Symbol zastępczy numeru slajdu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DF69-F5CA-4F73-83F3-2E0C6D81CB8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Symbol zastępczy nagłówka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ejsce Veolia Energia Poznań na rynku usług systemowych w perspektywie lat 2015 –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Symbol zastępczy daty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rszawa, 16 marca 2015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Symbol zastępczy stopki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eolia Energia Pozna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Symbol zastępczy numeru slajdu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555E-5E1D-4129-A372-484548482C8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Symbol zastępczy nagłówka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ejsce Veolia Energia Poznań na rynku usług systemowych w perspektywie lat 2015 –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Symbol zastępczy daty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rszawa, 16 marca 2015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Symbol zastępczy stopki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eolia Energia Pozna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Symbol zastępczy numeru slajdu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E4A5-F8F0-4545-BCFC-16399B76790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Symbol zastępczy nagłówka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ejsce Veolia Energia Poznań na rynku usług systemowych w perspektywie lat 2015 –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Symbol zastępczy daty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rszawa, 16 marca 2015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Symbol zastępczy stopki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eolia Energia Pozna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Symbol zastępczy numeru slajdu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7F68-5E0F-4E57-93BD-0B22E75671C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Symbol zastępczy nagłówka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ytu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Symbol zastępczy daty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Symbol zastępczy stopki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op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Symbol zastępczy numeru slajdu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A06C-BB82-45F0-8CC2-B59AB0DBC26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33977-CD09-416A-896D-8DB637E26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B0B51-1640-41AA-AF7F-9A5A9FC5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873C39-684F-4BCF-AAB9-0EF1046D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70FDA-6FC0-4B39-BBAE-C91DB107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250560" y="133200"/>
            <a:ext cx="6265800" cy="14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E78933-5540-4F41-9B6B-3AD17D93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57A8BA-1F04-4AE0-A4A6-D1E7D9C4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6B2B7B-B043-4ABA-A868-882278B4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B97FC9-4F5C-41BF-A142-83089517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42C7BA-257A-48C8-A88B-9980571C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BBB080-D543-4559-8F4F-0153D54C7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046688-0F01-4D97-B49E-71859A8F5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A8386-E1F1-4751-8C23-DAC170B3D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913E6-BBB5-4A17-A6B0-9AFB0BA57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60AA-8314-4B63-901C-243090EF4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ABC1D-70D9-4421-8CB3-CB45B9BE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28770-4F5A-41BC-8E82-BE4B2657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842D7-B948-4653-9BD9-CE7F9122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E17A-C61F-41D0-8D56-C1D6F28D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50560" y="133200"/>
            <a:ext cx="6265800" cy="14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391E-8248-4C1D-8F94-3958849D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9930-3F61-4358-BEFC-052E02CA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C94E9-E3CC-41BA-B6AD-7CD88246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801C-E720-4E23-8F3D-46683705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1FC83-C96F-4B6A-BEB6-0BFC1150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DDE6-44C1-437C-B95E-80610A4B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49C0E-914C-4718-83E1-D0BC8231A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3C45-32A6-48B5-8335-5E23E4644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C7288-54D8-48B2-ADD1-8B94D78E9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569AA-BDD5-4B73-A7A7-334DAF15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283B1-D9D3-48BE-9D94-4C110526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3A9B5-2FE3-4F37-B514-8A1ACDD8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0C2EC-1D6C-437C-89E0-B16E41FD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1C1FD-4745-4150-945C-AF070F7A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250560" y="133200"/>
            <a:ext cx="6265800" cy="14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399B8-A7DD-4958-96BE-FC8A30A5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BD801-7E60-477A-A21A-46CD87EC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C8168-99A0-482E-96AD-4D7B4CC1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D27EB-B93A-4773-9AF0-40C4BBF2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98FDC-F1E0-4EBF-9F16-EF039DB6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41792-B9D9-4E09-9A94-D85E7E46A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4F14B-35D8-4612-972D-EA8242514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A46D0-FBA8-49DE-A44D-BF7D75B44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C67E9-2047-45AC-B01D-476FC941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9327B-B0C3-4E7A-BA20-DB1EB0FC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D09C7-66B5-4B9A-8F16-CF7AC861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F727F-ED1E-48A1-89AC-E5C27548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A87DB-5F70-4968-9AE8-FA724635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250560" y="133200"/>
            <a:ext cx="6265800" cy="14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4493E-EEE5-4B5C-A353-0DAA1E3B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8C534-0012-44DE-9D2F-BE378BFF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8FED8-EB3E-4525-A413-F547057F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A4D33-B4F9-47DB-B88D-532F194C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7CC54-C95E-42D7-A5ED-DCB37168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3A933-873D-4B03-866B-A9E619F7E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B9976-2FC9-4AF5-90FC-14EB69582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62691-C47C-4CD0-81D7-4F9F4D2DE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0F06F-662D-4A5B-8A8A-4807B97B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4AB72-BB13-4F4F-92A0-F34ECC21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618C1-D8C9-4059-9C29-0931AABE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B541E-777A-4B87-9098-F4E6B1F1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CE209-AD3A-434D-B4BA-0233129A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250560" y="133200"/>
            <a:ext cx="6265800" cy="14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CE4CF-42B4-47EB-87E9-8C65D4BB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4D898-4BF8-4A05-ADA1-82EFCF6D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31D24-5EC5-4DF2-810D-BAE6717F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46387-C88C-4DA3-BE1A-3E5C721A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8EF06-6D28-4BD3-A5FA-8E1D090E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2AB17-BCED-4692-B8B3-C68026F38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50560" y="133200"/>
            <a:ext cx="6265800" cy="14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310F9-7878-4B51-A686-A5215126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F254F-92AE-4730-B91D-F8EFBA664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706E9D-94BA-4A60-8939-452251924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B9DDA6-4AC4-4224-9626-856EC181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D27663-F6F4-4765-AE0D-26393330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D278B1-0CF0-49EF-9919-9C7C835D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FA41C0-5FE5-48B4-B90B-2EB57964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250560" y="133200"/>
            <a:ext cx="6265800" cy="14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661702-DB89-446F-8020-8E23EF43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72C46C-A1CB-4E21-A80D-FEDB7D5A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1971FC-9E50-4DAF-A51B-7F9288EF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B2BBE8-366E-4956-8E28-F1A32A4F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DF577-D5FC-4655-9558-EA215FD8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91FCB9-58E0-499F-988D-966E0F4C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03A6C1-7A2F-43A0-A9F0-578953A30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BF2451-A41A-4201-8B2C-9168C3F90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1AED37-3D73-4CFD-961A-3F248F62D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F1462C-75C2-442E-8976-A23FE9DD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BF502E-E5AB-4E73-993D-EBC39A71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B97ABA-9DD4-4ECF-8941-8E020FD3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1EFAA4-CB78-4774-BC00-442AA089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250560" y="133200"/>
            <a:ext cx="6265800" cy="14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D940D4-7AB0-44A9-B40D-0597E586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C9E75D-4704-4892-91E5-78E25F71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BA586-773D-4BFF-BCB7-6AC61C1B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6B919A-C5C2-460F-94B2-8D349412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9588AA-88D7-452C-B4DB-2F693BCE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F69E64-9275-47F4-9E30-2269B8CA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03C68E-C0AA-45EE-8FD5-712006F3C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43DD54-1816-40CB-B608-83F1AAECB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925BD-D2F7-4C7B-BB95-9BDC1EE48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57429-EEA1-466B-A6CB-F5EA7A1B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5ED0A-1B9E-46A5-B8DE-9FE7880D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05E69-2E5E-4486-BE8A-C8B48064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AF010-1B52-4C24-BEB8-847C8E0E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3E86C-426E-4479-92F2-84070C4D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250560" y="133200"/>
            <a:ext cx="6265800" cy="14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C7B2D-4595-42F0-A3BB-DC6E5D85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8C392-61B1-4438-9990-69DA73DB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0C462-3D9A-428C-A72E-60789CF0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675C1-BCF1-48DD-8AE6-4A595DBB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59244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44A33-D9F2-4A35-9373-835E370F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59244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9FB54-3FF9-4CD9-80F2-C34FF2420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9806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59244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6D378-15E4-47D9-90C6-AABB9F6EA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32B982-A53A-4AD5-9844-5D3F2E205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37BCB9-47C5-44D4-A5BD-3897D743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4AEFFE-AE73-4ED2-A4C7-5AC28AFE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-972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6CA4-9FB0-4762-97CF-0776DE87383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2529000" y="6651720"/>
            <a:ext cx="6624360" cy="21564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-9360" y="1700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-9360" y="321300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-9360" y="4724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3214800" y="6651360"/>
            <a:ext cx="21333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6246720" y="6651360"/>
            <a:ext cx="28958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"/>
          <p:cNvSpPr/>
          <p:nvPr/>
        </p:nvSpPr>
        <p:spPr>
          <a:xfrm>
            <a:off x="2529000" y="6651720"/>
            <a:ext cx="6624360" cy="21564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-9360" y="1700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-9360" y="321300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-9360" y="4724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2"/>
          <a:stretch/>
        </p:blipFill>
        <p:spPr>
          <a:xfrm>
            <a:off x="900000" y="3870360"/>
            <a:ext cx="1443240" cy="1778040"/>
          </a:xfrm>
          <a:prstGeom prst="rect">
            <a:avLst/>
          </a:prstGeom>
          <a:ln w="0">
            <a:noFill/>
          </a:ln>
        </p:spPr>
      </p:pic>
      <p:pic>
        <p:nvPicPr>
          <p:cNvPr id="50" name="Obraz 1" descr=""/>
          <p:cNvPicPr/>
          <p:nvPr/>
        </p:nvPicPr>
        <p:blipFill>
          <a:blip r:embed="rId3"/>
          <a:stretch/>
        </p:blipFill>
        <p:spPr>
          <a:xfrm>
            <a:off x="2343240" y="593640"/>
            <a:ext cx="4444920" cy="952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3214800" y="6651360"/>
            <a:ext cx="21333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6246720" y="6651360"/>
            <a:ext cx="28958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-972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4A8B-EE1B-43B8-8E35-721AB3B3CF1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8"/>
          <p:cNvSpPr/>
          <p:nvPr/>
        </p:nvSpPr>
        <p:spPr>
          <a:xfrm>
            <a:off x="2529000" y="6651720"/>
            <a:ext cx="6624360" cy="21564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-9360" y="1700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-9360" y="321300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-9360" y="4724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Obraz 10" descr="JR.JPG"/>
          <p:cNvPicPr/>
          <p:nvPr/>
        </p:nvPicPr>
        <p:blipFill>
          <a:blip r:embed="rId2"/>
          <a:stretch/>
        </p:blipFill>
        <p:spPr>
          <a:xfrm>
            <a:off x="6145200" y="2414520"/>
            <a:ext cx="1968480" cy="1797120"/>
          </a:xfrm>
          <a:prstGeom prst="rect">
            <a:avLst/>
          </a:prstGeom>
          <a:ln w="0">
            <a:noFill/>
          </a:ln>
        </p:spPr>
      </p:pic>
      <p:pic>
        <p:nvPicPr>
          <p:cNvPr id="97" name="Obraz 10" descr="logo.jpg"/>
          <p:cNvPicPr/>
          <p:nvPr/>
        </p:nvPicPr>
        <p:blipFill>
          <a:blip r:embed="rId3"/>
          <a:stretch/>
        </p:blipFill>
        <p:spPr>
          <a:xfrm>
            <a:off x="5940360" y="4221000"/>
            <a:ext cx="2286000" cy="884520"/>
          </a:xfrm>
          <a:prstGeom prst="rect">
            <a:avLst/>
          </a:prstGeom>
          <a:ln w="0">
            <a:noFill/>
          </a:ln>
        </p:spPr>
      </p:pic>
      <p:pic>
        <p:nvPicPr>
          <p:cNvPr id="98" name="Obraz 3" descr=""/>
          <p:cNvPicPr/>
          <p:nvPr/>
        </p:nvPicPr>
        <p:blipFill>
          <a:blip r:embed="rId4"/>
          <a:stretch/>
        </p:blipFill>
        <p:spPr>
          <a:xfrm>
            <a:off x="250920" y="620640"/>
            <a:ext cx="4444920" cy="952560"/>
          </a:xfrm>
          <a:prstGeom prst="rect">
            <a:avLst/>
          </a:prstGeom>
          <a:ln w="0">
            <a:noFill/>
          </a:ln>
        </p:spPr>
      </p:pic>
      <p:pic>
        <p:nvPicPr>
          <p:cNvPr id="99" name="Obraz 4" descr=""/>
          <p:cNvPicPr/>
          <p:nvPr/>
        </p:nvPicPr>
        <p:blipFill>
          <a:blip r:embed="rId5"/>
          <a:stretch/>
        </p:blipFill>
        <p:spPr>
          <a:xfrm>
            <a:off x="1619280" y="2698920"/>
            <a:ext cx="2246400" cy="1501560"/>
          </a:xfrm>
          <a:prstGeom prst="rect">
            <a:avLst/>
          </a:prstGeom>
          <a:ln w="0">
            <a:noFill/>
          </a:ln>
        </p:spPr>
      </p:pic>
      <p:sp>
        <p:nvSpPr>
          <p:cNvPr id="100" name="pole tekstowe 6"/>
          <p:cNvSpPr/>
          <p:nvPr/>
        </p:nvSpPr>
        <p:spPr>
          <a:xfrm>
            <a:off x="1547640" y="4437000"/>
            <a:ext cx="23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mbria"/>
              </a:rPr>
              <a:t>Stanisław Porę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214800" y="6651360"/>
            <a:ext cx="21333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6246720" y="6651360"/>
            <a:ext cx="28958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-972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BC9E-56C3-4E56-93BF-544F4BF1668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8"/>
          <p:cNvSpPr/>
          <p:nvPr/>
        </p:nvSpPr>
        <p:spPr>
          <a:xfrm>
            <a:off x="2529000" y="6651720"/>
            <a:ext cx="6624360" cy="21564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-9360" y="1700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-9360" y="321300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-9360" y="4724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Obraz 10" descr="logo.jpg"/>
          <p:cNvPicPr/>
          <p:nvPr/>
        </p:nvPicPr>
        <p:blipFill>
          <a:blip r:embed="rId2"/>
          <a:stretch/>
        </p:blipFill>
        <p:spPr>
          <a:xfrm>
            <a:off x="6858000" y="0"/>
            <a:ext cx="2286000" cy="88416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214800" y="6651360"/>
            <a:ext cx="21333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6246720" y="6651360"/>
            <a:ext cx="28958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-972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A3BF-C906-4C5F-8D2B-E6FE3A37105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8"/>
          <p:cNvSpPr/>
          <p:nvPr/>
        </p:nvSpPr>
        <p:spPr>
          <a:xfrm>
            <a:off x="2529000" y="6651720"/>
            <a:ext cx="6624360" cy="21564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-9360" y="1700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-9360" y="321300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-9360" y="4724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Obraz 10" descr="logo.jpg"/>
          <p:cNvPicPr/>
          <p:nvPr/>
        </p:nvPicPr>
        <p:blipFill>
          <a:blip r:embed="rId2"/>
          <a:stretch/>
        </p:blipFill>
        <p:spPr>
          <a:xfrm>
            <a:off x="6858000" y="0"/>
            <a:ext cx="2286000" cy="8841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3214800" y="6651360"/>
            <a:ext cx="21333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6246720" y="6651360"/>
            <a:ext cx="28958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-972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4CD8-E598-45F0-A7CE-C7FC5F403A7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8"/>
          <p:cNvSpPr/>
          <p:nvPr/>
        </p:nvSpPr>
        <p:spPr>
          <a:xfrm>
            <a:off x="2529000" y="6651720"/>
            <a:ext cx="6624360" cy="21564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-9360" y="1700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0"/>
          <p:cNvSpPr/>
          <p:nvPr/>
        </p:nvSpPr>
        <p:spPr>
          <a:xfrm>
            <a:off x="-9360" y="321300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1"/>
          <p:cNvSpPr/>
          <p:nvPr/>
        </p:nvSpPr>
        <p:spPr>
          <a:xfrm>
            <a:off x="-9360" y="4724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Obraz 10" descr="logo.jpg"/>
          <p:cNvPicPr/>
          <p:nvPr/>
        </p:nvPicPr>
        <p:blipFill>
          <a:blip r:embed="rId2"/>
          <a:stretch/>
        </p:blipFill>
        <p:spPr>
          <a:xfrm>
            <a:off x="6858000" y="0"/>
            <a:ext cx="2286000" cy="88416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6"/>
          </p:nvPr>
        </p:nvSpPr>
        <p:spPr>
          <a:xfrm>
            <a:off x="-972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FE50-8A8E-48C6-846A-11C01554876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dt" idx="17"/>
          </p:nvPr>
        </p:nvSpPr>
        <p:spPr>
          <a:xfrm>
            <a:off x="3214800" y="6651360"/>
            <a:ext cx="21333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8"/>
          </p:nvPr>
        </p:nvSpPr>
        <p:spPr>
          <a:xfrm>
            <a:off x="6246720" y="6651360"/>
            <a:ext cx="28958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8"/>
          <p:cNvSpPr/>
          <p:nvPr/>
        </p:nvSpPr>
        <p:spPr>
          <a:xfrm>
            <a:off x="2529000" y="6651720"/>
            <a:ext cx="6624360" cy="21564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-9360" y="1700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-9360" y="321300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1"/>
          <p:cNvSpPr/>
          <p:nvPr/>
        </p:nvSpPr>
        <p:spPr>
          <a:xfrm>
            <a:off x="-9360" y="4724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Obraz 10" descr="logo.jpg"/>
          <p:cNvPicPr/>
          <p:nvPr/>
        </p:nvPicPr>
        <p:blipFill>
          <a:blip r:embed="rId2"/>
          <a:stretch/>
        </p:blipFill>
        <p:spPr>
          <a:xfrm>
            <a:off x="6858000" y="0"/>
            <a:ext cx="2286000" cy="88416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19"/>
          </p:nvPr>
        </p:nvSpPr>
        <p:spPr>
          <a:xfrm>
            <a:off x="-972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C69B-D1B7-47D7-A61A-6DCD12D44DA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dt" idx="20"/>
          </p:nvPr>
        </p:nvSpPr>
        <p:spPr>
          <a:xfrm>
            <a:off x="3214800" y="6651360"/>
            <a:ext cx="21333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ftr" idx="21"/>
          </p:nvPr>
        </p:nvSpPr>
        <p:spPr>
          <a:xfrm>
            <a:off x="6246720" y="6651360"/>
            <a:ext cx="28958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8"/>
          <p:cNvSpPr/>
          <p:nvPr/>
        </p:nvSpPr>
        <p:spPr>
          <a:xfrm>
            <a:off x="2529000" y="6651720"/>
            <a:ext cx="6624360" cy="21564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9"/>
          <p:cNvSpPr/>
          <p:nvPr/>
        </p:nvSpPr>
        <p:spPr>
          <a:xfrm>
            <a:off x="-9360" y="1700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0"/>
          <p:cNvSpPr/>
          <p:nvPr/>
        </p:nvSpPr>
        <p:spPr>
          <a:xfrm>
            <a:off x="-9360" y="321300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1"/>
          <p:cNvSpPr/>
          <p:nvPr/>
        </p:nvSpPr>
        <p:spPr>
          <a:xfrm>
            <a:off x="-9360" y="4724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Obraz 10" descr="logo.jpg"/>
          <p:cNvPicPr/>
          <p:nvPr/>
        </p:nvPicPr>
        <p:blipFill>
          <a:blip r:embed="rId2"/>
          <a:stretch/>
        </p:blipFill>
        <p:spPr>
          <a:xfrm>
            <a:off x="6858000" y="0"/>
            <a:ext cx="2286000" cy="8841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2"/>
          </p:nvPr>
        </p:nvSpPr>
        <p:spPr>
          <a:xfrm>
            <a:off x="3214800" y="6651360"/>
            <a:ext cx="21333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3"/>
          </p:nvPr>
        </p:nvSpPr>
        <p:spPr>
          <a:xfrm>
            <a:off x="6246720" y="6651360"/>
            <a:ext cx="28958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4"/>
          </p:nvPr>
        </p:nvSpPr>
        <p:spPr>
          <a:xfrm>
            <a:off x="-972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4B21-35F9-42F2-A160-95FA9F0F6BA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8"/>
          <p:cNvSpPr/>
          <p:nvPr/>
        </p:nvSpPr>
        <p:spPr>
          <a:xfrm>
            <a:off x="2529000" y="6651720"/>
            <a:ext cx="6624360" cy="21564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9"/>
          <p:cNvSpPr/>
          <p:nvPr/>
        </p:nvSpPr>
        <p:spPr>
          <a:xfrm>
            <a:off x="-9360" y="1700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0"/>
          <p:cNvSpPr/>
          <p:nvPr/>
        </p:nvSpPr>
        <p:spPr>
          <a:xfrm>
            <a:off x="-9360" y="321300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1"/>
          <p:cNvSpPr/>
          <p:nvPr/>
        </p:nvSpPr>
        <p:spPr>
          <a:xfrm>
            <a:off x="-9360" y="4724280"/>
            <a:ext cx="107640" cy="11970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Obraz 10" descr="logo.jpg"/>
          <p:cNvPicPr/>
          <p:nvPr/>
        </p:nvPicPr>
        <p:blipFill>
          <a:blip r:embed="rId2"/>
          <a:stretch/>
        </p:blipFill>
        <p:spPr>
          <a:xfrm>
            <a:off x="8259840" y="4365720"/>
            <a:ext cx="882720" cy="2286000"/>
          </a:xfrm>
          <a:prstGeom prst="rect">
            <a:avLst/>
          </a:prstGeom>
          <a:ln w="0">
            <a:noFill/>
          </a:ln>
        </p:spPr>
      </p:pic>
      <p:sp>
        <p:nvSpPr>
          <p:cNvPr id="377" name="Tytuł 7"/>
          <p:cNvSpPr/>
          <p:nvPr/>
        </p:nvSpPr>
        <p:spPr>
          <a:xfrm rot="5400000">
            <a:off x="6669360" y="2050200"/>
            <a:ext cx="4176720" cy="30780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Kliknij, aby edytować sty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5"/>
          </p:nvPr>
        </p:nvSpPr>
        <p:spPr>
          <a:xfrm>
            <a:off x="3214800" y="6651360"/>
            <a:ext cx="21333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6"/>
          </p:nvPr>
        </p:nvSpPr>
        <p:spPr>
          <a:xfrm>
            <a:off x="6246720" y="6651360"/>
            <a:ext cx="28958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27"/>
          </p:nvPr>
        </p:nvSpPr>
        <p:spPr>
          <a:xfrm>
            <a:off x="-972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43F1-DFE1-4C32-8157-20185845A85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2343240" y="3870360"/>
            <a:ext cx="5921280" cy="176832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anchor="ctr">
            <a:no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ffffff"/>
                </a:solidFill>
                <a:latin typeface="Calibri"/>
              </a:rPr>
              <a:t>Szanse i zagrożenia dla elektrowni wodnych</a:t>
            </a:r>
            <a:br>
              <a:rPr sz="1900"/>
            </a:br>
            <a:r>
              <a:rPr b="1" lang="pl-PL" sz="1900" spc="-1" strike="noStrike">
                <a:solidFill>
                  <a:srgbClr val="ffffff"/>
                </a:solidFill>
                <a:latin typeface="Calibri"/>
              </a:rPr>
              <a:t>wynikające ze zmian na rynku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99640" y="1989000"/>
            <a:ext cx="7332840" cy="18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Calibri"/>
              </a:rPr>
              <a:t>Energetyka wodna w poszukiwaniu szans na rynku energii elektrycznej i rynku mo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ole tekstowe 1"/>
          <p:cNvSpPr/>
          <p:nvPr/>
        </p:nvSpPr>
        <p:spPr>
          <a:xfrm>
            <a:off x="2549520" y="58705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tanisław Porę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ole tekstowe 4"/>
          <p:cNvSpPr/>
          <p:nvPr/>
        </p:nvSpPr>
        <p:spPr>
          <a:xfrm>
            <a:off x="5651640" y="58723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Jan Rakow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olumen i średnia cena energii elektrycznej na rynku niemieckim w latach 2008-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Podstawowy problem – niskie ceny (3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ynek energii elektrycznej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6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BE93-984A-47E5-9A0E-7CB77401239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Chart 50403" descr=""/>
          <p:cNvPicPr/>
          <p:nvPr/>
        </p:nvPicPr>
        <p:blipFill>
          <a:blip r:embed="rId1"/>
          <a:stretch/>
        </p:blipFill>
        <p:spPr>
          <a:xfrm>
            <a:off x="1182600" y="2097000"/>
            <a:ext cx="7004160" cy="3065400"/>
          </a:xfrm>
          <a:prstGeom prst="rect">
            <a:avLst/>
          </a:prstGeom>
          <a:ln w="0">
            <a:noFill/>
          </a:ln>
        </p:spPr>
      </p:pic>
      <p:sp>
        <p:nvSpPr>
          <p:cNvPr id="490" name="Prostokąt 10"/>
          <p:cNvSpPr/>
          <p:nvPr/>
        </p:nvSpPr>
        <p:spPr>
          <a:xfrm>
            <a:off x="1163520" y="5267160"/>
            <a:ext cx="676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Źródło: EEX (kontrakty terminowe według daty dostawy) – stan na dzień 31.12.2013. za E&amp;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ognozy cen opracowane przez specjalistyczne firmy oraz instytucje finansowe są na ogół zgodne, że do 2016 roku nie będzie istotnych zmian c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 tym okresie występuje wysoka rozbieżność prognoz, wynika to z niepewności co do regulacji unijnych, a zwłaszcza zmian zasad funkcjonowania systemu handlu emisjami. Przeważają prognozy utrzymujące niskie ceny (poniżej 40 EUR/MWh) co najmniej do 2020 roku. Przy rosnących kosztach zakupu uprawnień do emisji, nie są to warunki sprzyjające podejmowaniu decyzji inwestycyjnych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Podstawowy problem – niskie ceny (4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ynek energii elektrycznej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833D-E005-41C5-B269-E4D85CA0879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perspektywie 2020 r. brak nadziei na wysokie ceny energii na rynku energ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godnie z prognozami OSP należy się liczyć z nadmiarem energii dostępnej na rynku w dolinach nocny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y niezmienionych zasadach polskiego rynku energii zmienność cen w dobie nie będzie znacząc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dmiar energii w dolinach nocnych będzie się zwiększał dla okresów występowania silnych wiatrów, dla których generacja w elektrowniach wiatrowych będzie przekraczała 70 % mocy tych elektrown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Prognoza dla elektrowni wodnych (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ynek energii elektrycznej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129F-FE8D-458F-B4F0-3570D717CC8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skazanie dla elektrowni wodnych zachowań na rynku energii elektrycznej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ntensyfikacja produkcji energii elektrycznej w szczytach zapotrzebowania, poprzez maksymalne wykorzystywanie pojemności zbiorników i dostosowanie do większych wahań poziomu górnej wody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aksymalizacja możliwości magazynowania energii w wodzie poprzez inwestycje w człony pompowe i wykorzystywanie do pompowania taniej energii ze źródeł wiatrowy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Prognoza dla elektrowni wodnych (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ynek energii elektrycznej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9EBD-481B-49A5-AA8C-D7C494D2D14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Szanse i zagrożenia dla elektrowni wodnych wynikające ze zmian na rynku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2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79DB-DA97-4E94-B359-1E8793DF986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odtytuł 9"/>
          <p:cNvSpPr/>
          <p:nvPr/>
        </p:nvSpPr>
        <p:spPr>
          <a:xfrm>
            <a:off x="250920" y="981000"/>
            <a:ext cx="8642160" cy="5000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9d9d9"/>
                </a:solidFill>
                <a:latin typeface="Calibri"/>
              </a:rPr>
              <a:t>Wprowadzenie – wyznaczniki rynków energii w Polsce w perspektywie</a:t>
            </a:r>
            <a:br>
              <a:rPr sz="2000"/>
            </a:br>
            <a:r>
              <a:rPr b="1" lang="pl-PL" sz="2000" spc="-1" strike="noStrike">
                <a:solidFill>
                  <a:srgbClr val="d9d9d9"/>
                </a:solidFill>
                <a:latin typeface="Calibri"/>
              </a:rPr>
              <a:t>lat 2016 – 203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9d9d9"/>
                </a:solidFill>
                <a:latin typeface="Calibri"/>
              </a:rPr>
              <a:t>Rynek energii elektryczn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ynek usług systemow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9d9d9"/>
                </a:solidFill>
                <a:latin typeface="Calibri"/>
              </a:rPr>
              <a:t>Rynek mo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9d9d9"/>
                </a:solidFill>
                <a:latin typeface="Calibri"/>
              </a:rPr>
              <a:t>Nowe możliwości dla elektrowni wodn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Katalog usług systemowy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ynek usług systemowych  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A858-7061-4192-9761-F862519C1F4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Symbol zastępczy zawartości 7" descr=""/>
          <p:cNvPicPr/>
          <p:nvPr/>
        </p:nvPicPr>
        <p:blipFill>
          <a:blip r:embed="rId1"/>
          <a:stretch/>
        </p:blipFill>
        <p:spPr>
          <a:xfrm>
            <a:off x="1473120" y="765000"/>
            <a:ext cx="6627960" cy="580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Udział JWCD, nJWCD i odbiorców w rynku bilansującym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i rynku usług systemowy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ynek usług systemowych 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EC6F-32C1-4C5C-B5A2-508EE5D22BD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13"/>
          <p:cNvSpPr/>
          <p:nvPr/>
        </p:nvSpPr>
        <p:spPr>
          <a:xfrm>
            <a:off x="4921200" y="549360"/>
            <a:ext cx="3322800" cy="6048360"/>
          </a:xfrm>
          <a:custGeom>
            <a:avLst/>
            <a:gdLst>
              <a:gd name="textAreaLeft" fmla="*/ 60840 w 3322800"/>
              <a:gd name="textAreaRight" fmla="*/ 3261960 w 3322800"/>
              <a:gd name="textAreaTop" fmla="*/ 60840 h 6048360"/>
              <a:gd name="textAreaBottom" fmla="*/ 5987520 h 6048360"/>
            </a:gdLst>
            <a:ahLst/>
            <a:rect l="textAreaLeft" t="textAreaTop" r="textAreaRight" b="textAreaBottom"/>
            <a:pathLst>
              <a:path w="21600" h="39316">
                <a:moveTo>
                  <a:pt x="1354" y="0"/>
                </a:moveTo>
                <a:arcTo wR="1354" hR="1354" stAng="16200000" swAng="-5400000"/>
                <a:lnTo>
                  <a:pt x="0" y="37962"/>
                </a:lnTo>
                <a:arcTo wR="1354" hR="1354" stAng="10800000" swAng="-5400000"/>
                <a:lnTo>
                  <a:pt x="20246" y="39316"/>
                </a:lnTo>
                <a:arcTo wR="1354" hR="1354" stAng="5400000" swAng="-5400000"/>
                <a:lnTo>
                  <a:pt x="21600" y="1354"/>
                </a:lnTo>
                <a:arcTo wR="1354" hR="1354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Rynek usług systemowy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4"/>
          <p:cNvSpPr/>
          <p:nvPr/>
        </p:nvSpPr>
        <p:spPr>
          <a:xfrm>
            <a:off x="3398760" y="1100160"/>
            <a:ext cx="1100160" cy="3502080"/>
          </a:xfrm>
          <a:custGeom>
            <a:avLst/>
            <a:gdLst>
              <a:gd name="textAreaLeft" fmla="*/ 53640 w 1100160"/>
              <a:gd name="textAreaRight" fmla="*/ 1046520 w 1100160"/>
              <a:gd name="textAreaTop" fmla="*/ 53640 h 3502080"/>
              <a:gd name="textAreaBottom" fmla="*/ 3448440 h 3502080"/>
            </a:gdLst>
            <a:ahLst/>
            <a:rect l="textAreaLeft" t="textAreaTop" r="textAreaRight" b="textAreaBottom"/>
            <a:pathLst>
              <a:path w="21600" h="68743">
                <a:moveTo>
                  <a:pt x="3600" y="0"/>
                </a:moveTo>
                <a:arcTo wR="3600" hR="3600" stAng="16200000" swAng="-5400000"/>
                <a:lnTo>
                  <a:pt x="0" y="65143"/>
                </a:lnTo>
                <a:arcTo wR="3600" hR="3600" stAng="10800000" swAng="-5400000"/>
                <a:lnTo>
                  <a:pt x="18000" y="687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9300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alibri"/>
              </a:rPr>
              <a:t>JWC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alibri"/>
              </a:rPr>
              <a:t>JG</a:t>
            </a:r>
            <a:r>
              <a:rPr b="1" lang="pl-PL" sz="1800" spc="-1" strike="noStrike" baseline="-25000">
                <a:solidFill>
                  <a:srgbClr val="ffffff"/>
                </a:solidFill>
                <a:latin typeface="Calibri"/>
              </a:rPr>
              <a:t>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22"/>
          <p:cNvSpPr/>
          <p:nvPr/>
        </p:nvSpPr>
        <p:spPr>
          <a:xfrm>
            <a:off x="5162400" y="5989680"/>
            <a:ext cx="2938680" cy="40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93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Usługa odbudowy K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11"/>
          <p:cNvSpPr/>
          <p:nvPr/>
        </p:nvSpPr>
        <p:spPr>
          <a:xfrm>
            <a:off x="5116680" y="3299400"/>
            <a:ext cx="2938320" cy="40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300"/>
              </a:gs>
              <a:gs pos="50000">
                <a:srgbClr val="00ff00"/>
              </a:gs>
              <a:gs pos="100000">
                <a:srgbClr val="009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Usługa uruchomienia J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10"/>
          <p:cNvSpPr/>
          <p:nvPr/>
        </p:nvSpPr>
        <p:spPr>
          <a:xfrm>
            <a:off x="5148360" y="4833000"/>
            <a:ext cx="2943000" cy="40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93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Usługa G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13"/>
          <p:cNvSpPr/>
          <p:nvPr/>
        </p:nvSpPr>
        <p:spPr>
          <a:xfrm>
            <a:off x="5116680" y="1100880"/>
            <a:ext cx="2931840" cy="373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0093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Calibri"/>
              </a:rPr>
              <a:t>Operacyjna rezerwa moc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16"/>
          <p:cNvSpPr/>
          <p:nvPr/>
        </p:nvSpPr>
        <p:spPr>
          <a:xfrm>
            <a:off x="5129280" y="1532520"/>
            <a:ext cx="2932200" cy="373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0093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Calibri"/>
              </a:rPr>
              <a:t>Regulacja pierwot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7"/>
          <p:cNvSpPr/>
          <p:nvPr/>
        </p:nvSpPr>
        <p:spPr>
          <a:xfrm>
            <a:off x="5114880" y="1962720"/>
            <a:ext cx="2933640" cy="373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0093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Calibri"/>
              </a:rPr>
              <a:t>Regulacja wtór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9"/>
          <p:cNvSpPr/>
          <p:nvPr/>
        </p:nvSpPr>
        <p:spPr>
          <a:xfrm>
            <a:off x="5116680" y="2404080"/>
            <a:ext cx="2931840" cy="373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0093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Calibri"/>
              </a:rPr>
              <a:t>Zaniżenia/przeciąże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20"/>
          <p:cNvSpPr/>
          <p:nvPr/>
        </p:nvSpPr>
        <p:spPr>
          <a:xfrm>
            <a:off x="5129280" y="2851920"/>
            <a:ext cx="2938320" cy="373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0093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Calibri"/>
              </a:rPr>
              <a:t>AR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1"/>
          <p:cNvSpPr/>
          <p:nvPr/>
        </p:nvSpPr>
        <p:spPr>
          <a:xfrm>
            <a:off x="5148360" y="5337000"/>
            <a:ext cx="2952720" cy="54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b0f0"/>
              </a:gs>
              <a:gs pos="100000">
                <a:srgbClr val="0093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Calibri"/>
              </a:rPr>
              <a:t>Redukcja zapotrzebow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Calibri"/>
              </a:rPr>
              <a:t>na polecenie O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11"/>
          <p:cNvSpPr/>
          <p:nvPr/>
        </p:nvSpPr>
        <p:spPr>
          <a:xfrm>
            <a:off x="5119560" y="3762360"/>
            <a:ext cx="2952720" cy="40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b0f0"/>
              </a:gs>
              <a:gs pos="100000">
                <a:srgbClr val="0093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Calibri"/>
              </a:rPr>
              <a:t>Praca interwencyj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11"/>
          <p:cNvSpPr/>
          <p:nvPr/>
        </p:nvSpPr>
        <p:spPr>
          <a:xfrm>
            <a:off x="5130720" y="4221000"/>
            <a:ext cx="2951280" cy="408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b0f0"/>
              </a:gs>
              <a:gs pos="100000">
                <a:srgbClr val="0093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Calibri"/>
              </a:rPr>
              <a:t>Interwencyjna rezerwa zim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4"/>
          <p:cNvSpPr/>
          <p:nvPr/>
        </p:nvSpPr>
        <p:spPr>
          <a:xfrm>
            <a:off x="3384720" y="4695840"/>
            <a:ext cx="1099800" cy="623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000"/>
              </a:gs>
              <a:gs pos="100000">
                <a:srgbClr val="9300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alibri"/>
              </a:rPr>
              <a:t>nJW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4"/>
          <p:cNvSpPr/>
          <p:nvPr/>
        </p:nvSpPr>
        <p:spPr>
          <a:xfrm>
            <a:off x="3424320" y="5392800"/>
            <a:ext cx="110160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2d050"/>
              </a:gs>
              <a:gs pos="100000">
                <a:srgbClr val="92d05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alibri"/>
              </a:rPr>
              <a:t>Odbior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3"/>
          <p:cNvSpPr/>
          <p:nvPr/>
        </p:nvSpPr>
        <p:spPr>
          <a:xfrm>
            <a:off x="623880" y="1430280"/>
            <a:ext cx="2352600" cy="4559400"/>
          </a:xfrm>
          <a:custGeom>
            <a:avLst/>
            <a:gdLst>
              <a:gd name="textAreaLeft" fmla="*/ 114840 w 2352600"/>
              <a:gd name="textAreaRight" fmla="*/ 2237760 w 2352600"/>
              <a:gd name="textAreaTop" fmla="*/ 114840 h 4559400"/>
              <a:gd name="textAreaBottom" fmla="*/ 4444560 h 4559400"/>
            </a:gdLst>
            <a:ahLst/>
            <a:rect l="textAreaLeft" t="textAreaTop" r="textAreaRight" b="textAreaBottom"/>
            <a:pathLst>
              <a:path w="21600" h="41858">
                <a:moveTo>
                  <a:pt x="3600" y="0"/>
                </a:moveTo>
                <a:arcTo wR="3600" hR="3600" stAng="16200000" swAng="-5400000"/>
                <a:lnTo>
                  <a:pt x="0" y="38258"/>
                </a:lnTo>
                <a:arcTo wR="3600" hR="3600" stAng="10800000" swAng="-5400000"/>
                <a:lnTo>
                  <a:pt x="18000" y="41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Rynek bilansują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ięciokąt 23"/>
          <p:cNvSpPr/>
          <p:nvPr/>
        </p:nvSpPr>
        <p:spPr>
          <a:xfrm flipH="1">
            <a:off x="1908000" y="2346480"/>
            <a:ext cx="1371600" cy="388800"/>
          </a:xfrm>
          <a:custGeom>
            <a:avLst/>
            <a:gdLst>
              <a:gd name="textAreaLeft" fmla="*/ 360 w 1371600"/>
              <a:gd name="textAreaRight" fmla="*/ 1372320 w 137160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34" y="0"/>
                </a:lnTo>
                <a:lnTo>
                  <a:pt x="21600" y="10800"/>
                </a:lnTo>
                <a:lnTo>
                  <a:pt x="1853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1da"/>
          </a:solidFill>
          <a:ln w="25560">
            <a:solidFill>
              <a:srgbClr val="b3a2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neracja swobo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trzałka w prawo 24"/>
          <p:cNvSpPr/>
          <p:nvPr/>
        </p:nvSpPr>
        <p:spPr>
          <a:xfrm>
            <a:off x="4525920" y="1236600"/>
            <a:ext cx="592200" cy="222480"/>
          </a:xfrm>
          <a:prstGeom prst="rightArrow">
            <a:avLst>
              <a:gd name="adj1" fmla="val 50000"/>
              <a:gd name="adj2" fmla="val 49761"/>
            </a:avLst>
          </a:prstGeom>
          <a:gradFill rotWithShape="0">
            <a:gsLst>
              <a:gs pos="0">
                <a:srgbClr val="ff0000"/>
              </a:gs>
              <a:gs pos="100000">
                <a:srgbClr val="930000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ięciokąt 25"/>
          <p:cNvSpPr/>
          <p:nvPr/>
        </p:nvSpPr>
        <p:spPr>
          <a:xfrm flipH="1">
            <a:off x="1908000" y="2997360"/>
            <a:ext cx="1371600" cy="388800"/>
          </a:xfrm>
          <a:custGeom>
            <a:avLst/>
            <a:gdLst>
              <a:gd name="textAreaLeft" fmla="*/ 360 w 1371600"/>
              <a:gd name="textAreaRight" fmla="*/ 1372320 w 137160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35" y="0"/>
                </a:lnTo>
                <a:lnTo>
                  <a:pt x="21600" y="10800"/>
                </a:lnTo>
                <a:lnTo>
                  <a:pt x="185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1da"/>
          </a:solidFill>
          <a:ln w="25560">
            <a:solidFill>
              <a:srgbClr val="b3a2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neracja wymusz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trzałka w prawo 26"/>
          <p:cNvSpPr/>
          <p:nvPr/>
        </p:nvSpPr>
        <p:spPr>
          <a:xfrm>
            <a:off x="4537080" y="4933800"/>
            <a:ext cx="593640" cy="222480"/>
          </a:xfrm>
          <a:prstGeom prst="rightArrow">
            <a:avLst>
              <a:gd name="adj1" fmla="val 50000"/>
              <a:gd name="adj2" fmla="val 49882"/>
            </a:avLst>
          </a:prstGeom>
          <a:gradFill rotWithShape="0">
            <a:gsLst>
              <a:gs pos="0">
                <a:srgbClr val="ffc000"/>
              </a:gs>
              <a:gs pos="100000">
                <a:srgbClr val="930000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trzałka w prawo 27"/>
          <p:cNvSpPr/>
          <p:nvPr/>
        </p:nvSpPr>
        <p:spPr>
          <a:xfrm>
            <a:off x="4541760" y="5489640"/>
            <a:ext cx="592200" cy="222120"/>
          </a:xfrm>
          <a:prstGeom prst="rightArrow">
            <a:avLst>
              <a:gd name="adj1" fmla="val 50000"/>
              <a:gd name="adj2" fmla="val 49842"/>
            </a:avLst>
          </a:prstGeom>
          <a:gradFill rotWithShape="0">
            <a:gsLst>
              <a:gs pos="0">
                <a:srgbClr val="92d050"/>
              </a:gs>
              <a:gs pos="100000">
                <a:srgbClr val="92d050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trzałka w prawo 28"/>
          <p:cNvSpPr/>
          <p:nvPr/>
        </p:nvSpPr>
        <p:spPr>
          <a:xfrm>
            <a:off x="4530600" y="1628640"/>
            <a:ext cx="594000" cy="222480"/>
          </a:xfrm>
          <a:prstGeom prst="rightArrow">
            <a:avLst>
              <a:gd name="adj1" fmla="val 50000"/>
              <a:gd name="adj2" fmla="val 49912"/>
            </a:avLst>
          </a:prstGeom>
          <a:gradFill rotWithShape="0">
            <a:gsLst>
              <a:gs pos="0">
                <a:srgbClr val="ff0000"/>
              </a:gs>
              <a:gs pos="100000">
                <a:srgbClr val="930000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trzałka w prawo 29"/>
          <p:cNvSpPr/>
          <p:nvPr/>
        </p:nvSpPr>
        <p:spPr>
          <a:xfrm>
            <a:off x="4506840" y="2924280"/>
            <a:ext cx="592200" cy="222120"/>
          </a:xfrm>
          <a:prstGeom prst="rightArrow">
            <a:avLst>
              <a:gd name="adj1" fmla="val 50000"/>
              <a:gd name="adj2" fmla="val 49842"/>
            </a:avLst>
          </a:prstGeom>
          <a:gradFill rotWithShape="0">
            <a:gsLst>
              <a:gs pos="0">
                <a:srgbClr val="ff0000"/>
              </a:gs>
              <a:gs pos="100000">
                <a:srgbClr val="930000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trzałka w prawo 30"/>
          <p:cNvSpPr/>
          <p:nvPr/>
        </p:nvSpPr>
        <p:spPr>
          <a:xfrm>
            <a:off x="4516560" y="3406680"/>
            <a:ext cx="593640" cy="222480"/>
          </a:xfrm>
          <a:prstGeom prst="rightArrow">
            <a:avLst>
              <a:gd name="adj1" fmla="val 50000"/>
              <a:gd name="adj2" fmla="val 49882"/>
            </a:avLst>
          </a:prstGeom>
          <a:gradFill rotWithShape="0">
            <a:gsLst>
              <a:gs pos="0">
                <a:srgbClr val="ff0000"/>
              </a:gs>
              <a:gs pos="100000">
                <a:srgbClr val="930000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trzałka w prawo 32"/>
          <p:cNvSpPr/>
          <p:nvPr/>
        </p:nvSpPr>
        <p:spPr>
          <a:xfrm>
            <a:off x="4498920" y="2460600"/>
            <a:ext cx="593640" cy="220680"/>
          </a:xfrm>
          <a:prstGeom prst="rightArrow">
            <a:avLst>
              <a:gd name="adj1" fmla="val 50000"/>
              <a:gd name="adj2" fmla="val 50289"/>
            </a:avLst>
          </a:prstGeom>
          <a:gradFill rotWithShape="0">
            <a:gsLst>
              <a:gs pos="0">
                <a:srgbClr val="ff0000"/>
              </a:gs>
              <a:gs pos="100000">
                <a:srgbClr val="930000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trzałka w prawo 33"/>
          <p:cNvSpPr/>
          <p:nvPr/>
        </p:nvSpPr>
        <p:spPr>
          <a:xfrm>
            <a:off x="4516560" y="2065320"/>
            <a:ext cx="591840" cy="220680"/>
          </a:xfrm>
          <a:prstGeom prst="rightArrow">
            <a:avLst>
              <a:gd name="adj1" fmla="val 50000"/>
              <a:gd name="adj2" fmla="val 50136"/>
            </a:avLst>
          </a:prstGeom>
          <a:gradFill rotWithShape="0">
            <a:gsLst>
              <a:gs pos="0">
                <a:srgbClr val="ff0000"/>
              </a:gs>
              <a:gs pos="100000">
                <a:srgbClr val="930000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trzałka w prawo 34"/>
          <p:cNvSpPr/>
          <p:nvPr/>
        </p:nvSpPr>
        <p:spPr>
          <a:xfrm>
            <a:off x="4513320" y="3859200"/>
            <a:ext cx="592200" cy="222120"/>
          </a:xfrm>
          <a:prstGeom prst="rightArrow">
            <a:avLst>
              <a:gd name="adj1" fmla="val 50000"/>
              <a:gd name="adj2" fmla="val 49842"/>
            </a:avLst>
          </a:prstGeom>
          <a:gradFill rotWithShape="0">
            <a:gsLst>
              <a:gs pos="0">
                <a:srgbClr val="ff0000"/>
              </a:gs>
              <a:gs pos="100000">
                <a:srgbClr val="930000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trzałka w prawo 35"/>
          <p:cNvSpPr/>
          <p:nvPr/>
        </p:nvSpPr>
        <p:spPr>
          <a:xfrm>
            <a:off x="4527720" y="4309920"/>
            <a:ext cx="593640" cy="222480"/>
          </a:xfrm>
          <a:prstGeom prst="rightArrow">
            <a:avLst>
              <a:gd name="adj1" fmla="val 50000"/>
              <a:gd name="adj2" fmla="val 49882"/>
            </a:avLst>
          </a:prstGeom>
          <a:gradFill rotWithShape="0">
            <a:gsLst>
              <a:gs pos="0">
                <a:srgbClr val="ff0000"/>
              </a:gs>
              <a:gs pos="100000">
                <a:srgbClr val="930000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4"/>
          <p:cNvSpPr/>
          <p:nvPr/>
        </p:nvSpPr>
        <p:spPr>
          <a:xfrm>
            <a:off x="3444840" y="6002280"/>
            <a:ext cx="1101600" cy="461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00"/>
              </a:gs>
              <a:gs pos="100000">
                <a:srgbClr val="9300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JWCD, nJWC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trzałka w prawo 37"/>
          <p:cNvSpPr/>
          <p:nvPr/>
        </p:nvSpPr>
        <p:spPr>
          <a:xfrm>
            <a:off x="4554360" y="6127920"/>
            <a:ext cx="592200" cy="220320"/>
          </a:xfrm>
          <a:prstGeom prst="rightArrow">
            <a:avLst>
              <a:gd name="adj1" fmla="val 50000"/>
              <a:gd name="adj2" fmla="val 50249"/>
            </a:avLst>
          </a:prstGeom>
          <a:gradFill rotWithShape="0">
            <a:gsLst>
              <a:gs pos="0">
                <a:srgbClr val="ff0000"/>
              </a:gs>
              <a:gs pos="100000">
                <a:srgbClr val="930000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4"/>
          <p:cNvSpPr/>
          <p:nvPr/>
        </p:nvSpPr>
        <p:spPr>
          <a:xfrm>
            <a:off x="3922560" y="3730680"/>
            <a:ext cx="752760" cy="461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00"/>
              </a:gs>
              <a:gs pos="100000">
                <a:srgbClr val="9300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JG</a:t>
            </a:r>
            <a:r>
              <a:rPr b="1" lang="pl-PL" sz="1400" spc="-1" strike="noStrike" baseline="-25000">
                <a:solidFill>
                  <a:srgbClr val="ffffff"/>
                </a:solidFill>
                <a:latin typeface="Calibri"/>
              </a:rPr>
              <a:t>OS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ięciokąt 39"/>
          <p:cNvSpPr/>
          <p:nvPr/>
        </p:nvSpPr>
        <p:spPr>
          <a:xfrm flipH="1">
            <a:off x="1908000" y="5400720"/>
            <a:ext cx="1371600" cy="390600"/>
          </a:xfrm>
          <a:custGeom>
            <a:avLst/>
            <a:gdLst>
              <a:gd name="textAreaLeft" fmla="*/ 360 w 1371600"/>
              <a:gd name="textAreaRight" fmla="*/ 1372320 w 137160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34" y="0"/>
                </a:lnTo>
                <a:lnTo>
                  <a:pt x="21600" y="10800"/>
                </a:lnTo>
                <a:lnTo>
                  <a:pt x="1853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1da"/>
          </a:solidFill>
          <a:ln w="25560">
            <a:solidFill>
              <a:srgbClr val="b3a2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dukcja zapotrzebow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Udział dużych elektrowni wodnych (posiadających JWCD) 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w rynku bilansującym i rynku usług systemowy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ynek usług systemowych 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1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0E59-3F0C-4CE6-8319-466AADB9D6F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13"/>
          <p:cNvSpPr/>
          <p:nvPr/>
        </p:nvSpPr>
        <p:spPr>
          <a:xfrm>
            <a:off x="4921200" y="549360"/>
            <a:ext cx="3322800" cy="6048360"/>
          </a:xfrm>
          <a:custGeom>
            <a:avLst/>
            <a:gdLst>
              <a:gd name="textAreaLeft" fmla="*/ 60840 w 3322800"/>
              <a:gd name="textAreaRight" fmla="*/ 3261960 w 3322800"/>
              <a:gd name="textAreaTop" fmla="*/ 60840 h 6048360"/>
              <a:gd name="textAreaBottom" fmla="*/ 5987520 h 6048360"/>
            </a:gdLst>
            <a:ahLst/>
            <a:rect l="textAreaLeft" t="textAreaTop" r="textAreaRight" b="textAreaBottom"/>
            <a:pathLst>
              <a:path w="21600" h="39316">
                <a:moveTo>
                  <a:pt x="1354" y="0"/>
                </a:moveTo>
                <a:arcTo wR="1354" hR="1354" stAng="16200000" swAng="-5400000"/>
                <a:lnTo>
                  <a:pt x="0" y="37962"/>
                </a:lnTo>
                <a:arcTo wR="1354" hR="1354" stAng="10800000" swAng="-5400000"/>
                <a:lnTo>
                  <a:pt x="20246" y="39316"/>
                </a:lnTo>
                <a:arcTo wR="1354" hR="1354" stAng="5400000" swAng="-5400000"/>
                <a:lnTo>
                  <a:pt x="21600" y="1354"/>
                </a:lnTo>
                <a:arcTo wR="1354" hR="1354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Rynek usług systemowy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4"/>
          <p:cNvSpPr/>
          <p:nvPr/>
        </p:nvSpPr>
        <p:spPr>
          <a:xfrm>
            <a:off x="3398760" y="1100160"/>
            <a:ext cx="1100160" cy="3502080"/>
          </a:xfrm>
          <a:custGeom>
            <a:avLst/>
            <a:gdLst>
              <a:gd name="textAreaLeft" fmla="*/ 53640 w 1100160"/>
              <a:gd name="textAreaRight" fmla="*/ 1046520 w 1100160"/>
              <a:gd name="textAreaTop" fmla="*/ 53640 h 3502080"/>
              <a:gd name="textAreaBottom" fmla="*/ 3448440 h 3502080"/>
            </a:gdLst>
            <a:ahLst/>
            <a:rect l="textAreaLeft" t="textAreaTop" r="textAreaRight" b="textAreaBottom"/>
            <a:pathLst>
              <a:path w="21600" h="68743">
                <a:moveTo>
                  <a:pt x="3600" y="0"/>
                </a:moveTo>
                <a:arcTo wR="3600" hR="3600" stAng="16200000" swAng="-5400000"/>
                <a:lnTo>
                  <a:pt x="0" y="65143"/>
                </a:lnTo>
                <a:arcTo wR="3600" hR="3600" stAng="10800000" swAng="-5400000"/>
                <a:lnTo>
                  <a:pt x="18000" y="687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9300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alibri"/>
              </a:rPr>
              <a:t>JWC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alibri"/>
              </a:rPr>
              <a:t>JG</a:t>
            </a:r>
            <a:r>
              <a:rPr b="1" lang="pl-PL" sz="1800" spc="-1" strike="noStrike" baseline="-25000">
                <a:solidFill>
                  <a:srgbClr val="ffffff"/>
                </a:solidFill>
                <a:latin typeface="Calibri"/>
              </a:rPr>
              <a:t>OS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22"/>
          <p:cNvSpPr/>
          <p:nvPr/>
        </p:nvSpPr>
        <p:spPr>
          <a:xfrm>
            <a:off x="5162400" y="5989680"/>
            <a:ext cx="2938680" cy="40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93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Usługa odbudowy K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13"/>
          <p:cNvSpPr/>
          <p:nvPr/>
        </p:nvSpPr>
        <p:spPr>
          <a:xfrm>
            <a:off x="5116680" y="1100880"/>
            <a:ext cx="2931840" cy="373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0093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Calibri"/>
              </a:rPr>
              <a:t>Operacyjna rezerwa moc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16"/>
          <p:cNvSpPr/>
          <p:nvPr/>
        </p:nvSpPr>
        <p:spPr>
          <a:xfrm>
            <a:off x="5129280" y="1532520"/>
            <a:ext cx="2932200" cy="373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0093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Calibri"/>
              </a:rPr>
              <a:t>Regulacja pierwot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17"/>
          <p:cNvSpPr/>
          <p:nvPr/>
        </p:nvSpPr>
        <p:spPr>
          <a:xfrm>
            <a:off x="5114880" y="1962720"/>
            <a:ext cx="2933640" cy="373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0093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Calibri"/>
              </a:rPr>
              <a:t>Regulacja wtór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20"/>
          <p:cNvSpPr/>
          <p:nvPr/>
        </p:nvSpPr>
        <p:spPr>
          <a:xfrm>
            <a:off x="5129280" y="2851920"/>
            <a:ext cx="2938320" cy="373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0093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Calibri"/>
              </a:rPr>
              <a:t>AR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11"/>
          <p:cNvSpPr/>
          <p:nvPr/>
        </p:nvSpPr>
        <p:spPr>
          <a:xfrm>
            <a:off x="5119560" y="3762360"/>
            <a:ext cx="2952720" cy="40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b0f0"/>
              </a:gs>
              <a:gs pos="100000">
                <a:srgbClr val="0093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Calibri"/>
              </a:rPr>
              <a:t>Praca interwencyj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trzałka w prawo 24"/>
          <p:cNvSpPr/>
          <p:nvPr/>
        </p:nvSpPr>
        <p:spPr>
          <a:xfrm>
            <a:off x="4525920" y="1236600"/>
            <a:ext cx="592200" cy="222480"/>
          </a:xfrm>
          <a:prstGeom prst="rightArrow">
            <a:avLst>
              <a:gd name="adj1" fmla="val 50000"/>
              <a:gd name="adj2" fmla="val 49761"/>
            </a:avLst>
          </a:prstGeom>
          <a:gradFill rotWithShape="0">
            <a:gsLst>
              <a:gs pos="0">
                <a:srgbClr val="ff0000"/>
              </a:gs>
              <a:gs pos="100000">
                <a:srgbClr val="930000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trzałka w prawo 28"/>
          <p:cNvSpPr/>
          <p:nvPr/>
        </p:nvSpPr>
        <p:spPr>
          <a:xfrm>
            <a:off x="4530600" y="1628640"/>
            <a:ext cx="594000" cy="222480"/>
          </a:xfrm>
          <a:prstGeom prst="rightArrow">
            <a:avLst>
              <a:gd name="adj1" fmla="val 50000"/>
              <a:gd name="adj2" fmla="val 49912"/>
            </a:avLst>
          </a:prstGeom>
          <a:gradFill rotWithShape="0">
            <a:gsLst>
              <a:gs pos="0">
                <a:srgbClr val="ff0000"/>
              </a:gs>
              <a:gs pos="100000">
                <a:srgbClr val="930000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trzałka w prawo 33"/>
          <p:cNvSpPr/>
          <p:nvPr/>
        </p:nvSpPr>
        <p:spPr>
          <a:xfrm>
            <a:off x="4516560" y="2065320"/>
            <a:ext cx="591840" cy="220680"/>
          </a:xfrm>
          <a:prstGeom prst="rightArrow">
            <a:avLst>
              <a:gd name="adj1" fmla="val 50000"/>
              <a:gd name="adj2" fmla="val 50136"/>
            </a:avLst>
          </a:prstGeom>
          <a:gradFill rotWithShape="0">
            <a:gsLst>
              <a:gs pos="0">
                <a:srgbClr val="ff0000"/>
              </a:gs>
              <a:gs pos="100000">
                <a:srgbClr val="930000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trzałka w prawo 34"/>
          <p:cNvSpPr/>
          <p:nvPr/>
        </p:nvSpPr>
        <p:spPr>
          <a:xfrm>
            <a:off x="4513320" y="3859200"/>
            <a:ext cx="592200" cy="222120"/>
          </a:xfrm>
          <a:prstGeom prst="rightArrow">
            <a:avLst>
              <a:gd name="adj1" fmla="val 50000"/>
              <a:gd name="adj2" fmla="val 49842"/>
            </a:avLst>
          </a:prstGeom>
          <a:gradFill rotWithShape="0">
            <a:gsLst>
              <a:gs pos="0">
                <a:srgbClr val="ff0000"/>
              </a:gs>
              <a:gs pos="100000">
                <a:srgbClr val="930000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4"/>
          <p:cNvSpPr/>
          <p:nvPr/>
        </p:nvSpPr>
        <p:spPr>
          <a:xfrm>
            <a:off x="3444840" y="6002280"/>
            <a:ext cx="1101600" cy="461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00"/>
              </a:gs>
              <a:gs pos="100000">
                <a:srgbClr val="9300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JWC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trzałka w prawo 37"/>
          <p:cNvSpPr/>
          <p:nvPr/>
        </p:nvSpPr>
        <p:spPr>
          <a:xfrm>
            <a:off x="4554360" y="6127920"/>
            <a:ext cx="592200" cy="220320"/>
          </a:xfrm>
          <a:prstGeom prst="rightArrow">
            <a:avLst>
              <a:gd name="adj1" fmla="val 50000"/>
              <a:gd name="adj2" fmla="val 50249"/>
            </a:avLst>
          </a:prstGeom>
          <a:gradFill rotWithShape="0">
            <a:gsLst>
              <a:gs pos="0">
                <a:srgbClr val="ff0000"/>
              </a:gs>
              <a:gs pos="100000">
                <a:srgbClr val="930000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trzałka w prawo 39"/>
          <p:cNvSpPr/>
          <p:nvPr/>
        </p:nvSpPr>
        <p:spPr>
          <a:xfrm>
            <a:off x="4506840" y="2924280"/>
            <a:ext cx="592200" cy="222120"/>
          </a:xfrm>
          <a:prstGeom prst="rightArrow">
            <a:avLst>
              <a:gd name="adj1" fmla="val 50000"/>
              <a:gd name="adj2" fmla="val 49842"/>
            </a:avLst>
          </a:prstGeom>
          <a:gradFill rotWithShape="0">
            <a:gsLst>
              <a:gs pos="0">
                <a:srgbClr val="ff0000"/>
              </a:gs>
              <a:gs pos="100000">
                <a:srgbClr val="930000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13"/>
          <p:cNvSpPr/>
          <p:nvPr/>
        </p:nvSpPr>
        <p:spPr>
          <a:xfrm>
            <a:off x="623880" y="1430280"/>
            <a:ext cx="2352600" cy="4559400"/>
          </a:xfrm>
          <a:custGeom>
            <a:avLst/>
            <a:gdLst>
              <a:gd name="textAreaLeft" fmla="*/ 114840 w 2352600"/>
              <a:gd name="textAreaRight" fmla="*/ 2237760 w 2352600"/>
              <a:gd name="textAreaTop" fmla="*/ 114840 h 4559400"/>
              <a:gd name="textAreaBottom" fmla="*/ 4444560 h 4559400"/>
            </a:gdLst>
            <a:ahLst/>
            <a:rect l="textAreaLeft" t="textAreaTop" r="textAreaRight" b="textAreaBottom"/>
            <a:pathLst>
              <a:path w="21600" h="41858">
                <a:moveTo>
                  <a:pt x="3600" y="0"/>
                </a:moveTo>
                <a:arcTo wR="3600" hR="3600" stAng="16200000" swAng="-5400000"/>
                <a:lnTo>
                  <a:pt x="0" y="38258"/>
                </a:lnTo>
                <a:arcTo wR="3600" hR="3600" stAng="10800000" swAng="-5400000"/>
                <a:lnTo>
                  <a:pt x="18000" y="41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Rynek bilansują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Teoretyczny” udział małych elektrowni wodnych (nJWCD) 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w rynku bilansującym i rynku usług systemowy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ynek usług systemowych 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2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7C8F-D72C-42DD-B417-37093D8661C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13"/>
          <p:cNvSpPr/>
          <p:nvPr/>
        </p:nvSpPr>
        <p:spPr>
          <a:xfrm>
            <a:off x="4921200" y="549360"/>
            <a:ext cx="3322800" cy="6048360"/>
          </a:xfrm>
          <a:custGeom>
            <a:avLst/>
            <a:gdLst>
              <a:gd name="textAreaLeft" fmla="*/ 60840 w 3322800"/>
              <a:gd name="textAreaRight" fmla="*/ 3261960 w 3322800"/>
              <a:gd name="textAreaTop" fmla="*/ 60840 h 6048360"/>
              <a:gd name="textAreaBottom" fmla="*/ 5987520 h 6048360"/>
            </a:gdLst>
            <a:ahLst/>
            <a:rect l="textAreaLeft" t="textAreaTop" r="textAreaRight" b="textAreaBottom"/>
            <a:pathLst>
              <a:path w="21600" h="39316">
                <a:moveTo>
                  <a:pt x="1354" y="0"/>
                </a:moveTo>
                <a:arcTo wR="1354" hR="1354" stAng="16200000" swAng="-5400000"/>
                <a:lnTo>
                  <a:pt x="0" y="37962"/>
                </a:lnTo>
                <a:arcTo wR="1354" hR="1354" stAng="10800000" swAng="-5400000"/>
                <a:lnTo>
                  <a:pt x="20246" y="39316"/>
                </a:lnTo>
                <a:arcTo wR="1354" hR="1354" stAng="5400000" swAng="-5400000"/>
                <a:lnTo>
                  <a:pt x="21600" y="1354"/>
                </a:lnTo>
                <a:arcTo wR="1354" hR="1354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Rynek usług systemowy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22"/>
          <p:cNvSpPr/>
          <p:nvPr/>
        </p:nvSpPr>
        <p:spPr>
          <a:xfrm>
            <a:off x="5162400" y="5989680"/>
            <a:ext cx="2938680" cy="40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93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Usługa odbudowy K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10"/>
          <p:cNvSpPr/>
          <p:nvPr/>
        </p:nvSpPr>
        <p:spPr>
          <a:xfrm>
            <a:off x="5148360" y="4833000"/>
            <a:ext cx="2943000" cy="40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93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Usługa G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4"/>
          <p:cNvSpPr/>
          <p:nvPr/>
        </p:nvSpPr>
        <p:spPr>
          <a:xfrm>
            <a:off x="3384720" y="4695840"/>
            <a:ext cx="1099800" cy="623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000"/>
              </a:gs>
              <a:gs pos="100000">
                <a:srgbClr val="9300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alibri"/>
              </a:rPr>
              <a:t>nJW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trzałka w prawo 26"/>
          <p:cNvSpPr/>
          <p:nvPr/>
        </p:nvSpPr>
        <p:spPr>
          <a:xfrm>
            <a:off x="4537080" y="4933800"/>
            <a:ext cx="593640" cy="222480"/>
          </a:xfrm>
          <a:prstGeom prst="rightArrow">
            <a:avLst>
              <a:gd name="adj1" fmla="val 50000"/>
              <a:gd name="adj2" fmla="val 49882"/>
            </a:avLst>
          </a:prstGeom>
          <a:gradFill rotWithShape="0">
            <a:gsLst>
              <a:gs pos="0">
                <a:srgbClr val="ffc000"/>
              </a:gs>
              <a:gs pos="100000">
                <a:srgbClr val="930000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4"/>
          <p:cNvSpPr/>
          <p:nvPr/>
        </p:nvSpPr>
        <p:spPr>
          <a:xfrm>
            <a:off x="3444840" y="6002280"/>
            <a:ext cx="1101600" cy="461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00"/>
              </a:gs>
              <a:gs pos="100000">
                <a:srgbClr val="9300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nJWC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trzałka w prawo 37"/>
          <p:cNvSpPr/>
          <p:nvPr/>
        </p:nvSpPr>
        <p:spPr>
          <a:xfrm>
            <a:off x="4554360" y="6127920"/>
            <a:ext cx="592200" cy="220320"/>
          </a:xfrm>
          <a:prstGeom prst="rightArrow">
            <a:avLst>
              <a:gd name="adj1" fmla="val 50000"/>
              <a:gd name="adj2" fmla="val 50249"/>
            </a:avLst>
          </a:prstGeom>
          <a:gradFill rotWithShape="0">
            <a:gsLst>
              <a:gs pos="0">
                <a:srgbClr val="ff0000"/>
              </a:gs>
              <a:gs pos="100000">
                <a:srgbClr val="930000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13"/>
          <p:cNvSpPr/>
          <p:nvPr/>
        </p:nvSpPr>
        <p:spPr>
          <a:xfrm>
            <a:off x="623880" y="1430280"/>
            <a:ext cx="2352600" cy="4559400"/>
          </a:xfrm>
          <a:custGeom>
            <a:avLst/>
            <a:gdLst>
              <a:gd name="textAreaLeft" fmla="*/ 114840 w 2352600"/>
              <a:gd name="textAreaRight" fmla="*/ 2237760 w 2352600"/>
              <a:gd name="textAreaTop" fmla="*/ 114840 h 4559400"/>
              <a:gd name="textAreaBottom" fmla="*/ 4444560 h 4559400"/>
            </a:gdLst>
            <a:ahLst/>
            <a:rect l="textAreaLeft" t="textAreaTop" r="textAreaRight" b="textAreaBottom"/>
            <a:pathLst>
              <a:path w="21600" h="41858">
                <a:moveTo>
                  <a:pt x="3600" y="0"/>
                </a:moveTo>
                <a:arcTo wR="3600" hR="3600" stAng="16200000" swAng="-5400000"/>
                <a:lnTo>
                  <a:pt x="0" y="38258"/>
                </a:lnTo>
                <a:arcTo wR="3600" hR="3600" stAng="10800000" swAng="-5400000"/>
                <a:lnTo>
                  <a:pt x="18000" y="41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Rynek bilansują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Praktyczny” udział małych elektrowni wodnych (nJWCD) 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w rynku bilansującym i rynku usług systemowy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ynek usług systemowych 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5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EF28-6BA1-4CFC-AE67-CB88B0FF0DB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13"/>
          <p:cNvSpPr/>
          <p:nvPr/>
        </p:nvSpPr>
        <p:spPr>
          <a:xfrm>
            <a:off x="4921200" y="549360"/>
            <a:ext cx="3322800" cy="6048360"/>
          </a:xfrm>
          <a:custGeom>
            <a:avLst/>
            <a:gdLst>
              <a:gd name="textAreaLeft" fmla="*/ 60840 w 3322800"/>
              <a:gd name="textAreaRight" fmla="*/ 3261960 w 3322800"/>
              <a:gd name="textAreaTop" fmla="*/ 60840 h 6048360"/>
              <a:gd name="textAreaBottom" fmla="*/ 5987520 h 6048360"/>
            </a:gdLst>
            <a:ahLst/>
            <a:rect l="textAreaLeft" t="textAreaTop" r="textAreaRight" b="textAreaBottom"/>
            <a:pathLst>
              <a:path w="21600" h="39316">
                <a:moveTo>
                  <a:pt x="1354" y="0"/>
                </a:moveTo>
                <a:arcTo wR="1354" hR="1354" stAng="16200000" swAng="-5400000"/>
                <a:lnTo>
                  <a:pt x="0" y="37962"/>
                </a:lnTo>
                <a:arcTo wR="1354" hR="1354" stAng="10800000" swAng="-5400000"/>
                <a:lnTo>
                  <a:pt x="20246" y="39316"/>
                </a:lnTo>
                <a:arcTo wR="1354" hR="1354" stAng="5400000" swAng="-5400000"/>
                <a:lnTo>
                  <a:pt x="21600" y="1354"/>
                </a:lnTo>
                <a:arcTo wR="1354" hR="1354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Rynek usług systemowy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13"/>
          <p:cNvSpPr/>
          <p:nvPr/>
        </p:nvSpPr>
        <p:spPr>
          <a:xfrm>
            <a:off x="623880" y="1430280"/>
            <a:ext cx="2352600" cy="4559400"/>
          </a:xfrm>
          <a:custGeom>
            <a:avLst/>
            <a:gdLst>
              <a:gd name="textAreaLeft" fmla="*/ 114840 w 2352600"/>
              <a:gd name="textAreaRight" fmla="*/ 2237760 w 2352600"/>
              <a:gd name="textAreaTop" fmla="*/ 114840 h 4559400"/>
              <a:gd name="textAreaBottom" fmla="*/ 4444560 h 4559400"/>
            </a:gdLst>
            <a:ahLst/>
            <a:rect l="textAreaLeft" t="textAreaTop" r="textAreaRight" b="textAreaBottom"/>
            <a:pathLst>
              <a:path w="21600" h="41858">
                <a:moveTo>
                  <a:pt x="3600" y="0"/>
                </a:moveTo>
                <a:arcTo wR="3600" hR="3600" stAng="16200000" swAng="-5400000"/>
                <a:lnTo>
                  <a:pt x="0" y="38258"/>
                </a:lnTo>
                <a:arcTo wR="3600" hR="3600" stAng="10800000" swAng="-5400000"/>
                <a:lnTo>
                  <a:pt x="18000" y="41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Rynek bilansują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Szanse i zagrożenia dla elektrowni wodnych wynikające ze zmian na rynku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6AFB-DE34-416F-BD8D-25404B6CC73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odtytuł 9"/>
          <p:cNvSpPr/>
          <p:nvPr/>
        </p:nvSpPr>
        <p:spPr>
          <a:xfrm>
            <a:off x="250920" y="981000"/>
            <a:ext cx="8642160" cy="5000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prowadzenie – wyznaczniki rynków energii w Polsce w perspektywie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lat 2016 – 203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ynek energii elektryczn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ynek usług systemow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ynek mo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Nowe możliwości dla elektrowni wodn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AutoShape 13"/>
          <p:cNvSpPr/>
          <p:nvPr/>
        </p:nvSpPr>
        <p:spPr>
          <a:xfrm>
            <a:off x="623880" y="1430280"/>
            <a:ext cx="2352600" cy="4559400"/>
          </a:xfrm>
          <a:custGeom>
            <a:avLst/>
            <a:gdLst>
              <a:gd name="textAreaLeft" fmla="*/ 114840 w 2352600"/>
              <a:gd name="textAreaRight" fmla="*/ 2237760 w 2352600"/>
              <a:gd name="textAreaTop" fmla="*/ 114840 h 4559400"/>
              <a:gd name="textAreaBottom" fmla="*/ 4444560 h 4559400"/>
            </a:gdLst>
            <a:ahLst/>
            <a:rect l="textAreaLeft" t="textAreaTop" r="textAreaRight" b="textAreaBottom"/>
            <a:pathLst>
              <a:path w="21600" h="41858">
                <a:moveTo>
                  <a:pt x="3600" y="0"/>
                </a:moveTo>
                <a:arcTo wR="3600" hR="3600" stAng="16200000" swAng="-5400000"/>
                <a:lnTo>
                  <a:pt x="0" y="38258"/>
                </a:lnTo>
                <a:arcTo wR="3600" hR="3600" stAng="10800000" swAng="-5400000"/>
                <a:lnTo>
                  <a:pt x="18000" y="41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Rynek bilansują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Praktyczny” udział małych elektrowni wodnych (nJWCD) 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w rynku bilansującym i rynku usług systemowy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ynek usług systemowych 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3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51ED-25FD-4B1D-A922-648CC4BBEE9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13"/>
          <p:cNvSpPr/>
          <p:nvPr/>
        </p:nvSpPr>
        <p:spPr>
          <a:xfrm>
            <a:off x="4921200" y="549360"/>
            <a:ext cx="3322800" cy="6048360"/>
          </a:xfrm>
          <a:custGeom>
            <a:avLst/>
            <a:gdLst>
              <a:gd name="textAreaLeft" fmla="*/ 60840 w 3322800"/>
              <a:gd name="textAreaRight" fmla="*/ 3261960 w 3322800"/>
              <a:gd name="textAreaTop" fmla="*/ 60840 h 6048360"/>
              <a:gd name="textAreaBottom" fmla="*/ 5987520 h 6048360"/>
            </a:gdLst>
            <a:ahLst/>
            <a:rect l="textAreaLeft" t="textAreaTop" r="textAreaRight" b="textAreaBottom"/>
            <a:pathLst>
              <a:path w="21600" h="39316">
                <a:moveTo>
                  <a:pt x="1354" y="0"/>
                </a:moveTo>
                <a:arcTo wR="1354" hR="1354" stAng="16200000" swAng="-5400000"/>
                <a:lnTo>
                  <a:pt x="0" y="37962"/>
                </a:lnTo>
                <a:arcTo wR="1354" hR="1354" stAng="10800000" swAng="-5400000"/>
                <a:lnTo>
                  <a:pt x="20246" y="39316"/>
                </a:lnTo>
                <a:arcTo wR="1354" hR="1354" stAng="5400000" swAng="-5400000"/>
                <a:lnTo>
                  <a:pt x="21600" y="1354"/>
                </a:lnTo>
                <a:arcTo wR="1354" hR="1354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Rynek usług systemowy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Pięciokąt 1"/>
          <p:cNvGrpSpPr/>
          <p:nvPr/>
        </p:nvGrpSpPr>
        <p:grpSpPr>
          <a:xfrm>
            <a:off x="712800" y="1700280"/>
            <a:ext cx="2279520" cy="1116000"/>
            <a:chOff x="712800" y="1700280"/>
            <a:chExt cx="2279520" cy="1116000"/>
          </a:xfrm>
        </p:grpSpPr>
        <p:pic>
          <p:nvPicPr>
            <p:cNvPr id="608" name="Pięciokąt 1" descr=""/>
            <p:cNvPicPr/>
            <p:nvPr/>
          </p:nvPicPr>
          <p:blipFill>
            <a:blip r:embed="rId1"/>
            <a:stretch/>
          </p:blipFill>
          <p:spPr>
            <a:xfrm>
              <a:off x="712800" y="1700280"/>
              <a:ext cx="227952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"/>
            <p:cNvSpPr/>
            <p:nvPr/>
          </p:nvSpPr>
          <p:spPr>
            <a:xfrm>
              <a:off x="774720" y="1736640"/>
              <a:ext cx="19080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00"/>
                  </a:solidFill>
                  <a:latin typeface="Calibri"/>
                </a:rPr>
                <a:t>Dlaczego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Pagon 9"/>
          <p:cNvGrpSpPr/>
          <p:nvPr/>
        </p:nvGrpSpPr>
        <p:grpSpPr>
          <a:xfrm>
            <a:off x="3303720" y="1700280"/>
            <a:ext cx="4078080" cy="1189080"/>
            <a:chOff x="3303720" y="1700280"/>
            <a:chExt cx="4078080" cy="1189080"/>
          </a:xfrm>
        </p:grpSpPr>
        <p:pic>
          <p:nvPicPr>
            <p:cNvPr id="611" name="Pagon 9" descr=""/>
            <p:cNvPicPr/>
            <p:nvPr/>
          </p:nvPicPr>
          <p:blipFill>
            <a:blip r:embed="rId2"/>
            <a:stretch/>
          </p:blipFill>
          <p:spPr>
            <a:xfrm>
              <a:off x="3303720" y="1700280"/>
              <a:ext cx="407808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"/>
            <p:cNvSpPr/>
            <p:nvPr/>
          </p:nvSpPr>
          <p:spPr>
            <a:xfrm>
              <a:off x="3908520" y="1736640"/>
              <a:ext cx="287964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Calibri"/>
                </a:rPr>
                <a:t>Jedynym nabywcą usług systemowych jest OSP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Pagon 10"/>
          <p:cNvGrpSpPr/>
          <p:nvPr/>
        </p:nvGrpSpPr>
        <p:grpSpPr>
          <a:xfrm>
            <a:off x="4925880" y="2981160"/>
            <a:ext cx="835200" cy="809640"/>
            <a:chOff x="4925880" y="2981160"/>
            <a:chExt cx="835200" cy="809640"/>
          </a:xfrm>
        </p:grpSpPr>
        <p:pic>
          <p:nvPicPr>
            <p:cNvPr id="614" name="Pagon 10" descr=""/>
            <p:cNvPicPr/>
            <p:nvPr/>
          </p:nvPicPr>
          <p:blipFill>
            <a:blip r:embed="rId3"/>
            <a:stretch/>
          </p:blipFill>
          <p:spPr>
            <a:xfrm>
              <a:off x="4925880" y="2981160"/>
              <a:ext cx="83520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 rot="5400000">
              <a:off x="4996440" y="3007440"/>
              <a:ext cx="7020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Pagon 13"/>
          <p:cNvGrpSpPr/>
          <p:nvPr/>
        </p:nvGrpSpPr>
        <p:grpSpPr>
          <a:xfrm>
            <a:off x="2786040" y="3902040"/>
            <a:ext cx="5803920" cy="1187640"/>
            <a:chOff x="2786040" y="3902040"/>
            <a:chExt cx="5803920" cy="1187640"/>
          </a:xfrm>
        </p:grpSpPr>
        <p:pic>
          <p:nvPicPr>
            <p:cNvPr id="617" name="Pagon 13" descr=""/>
            <p:cNvPicPr/>
            <p:nvPr/>
          </p:nvPicPr>
          <p:blipFill>
            <a:blip r:embed="rId4"/>
            <a:stretch/>
          </p:blipFill>
          <p:spPr>
            <a:xfrm>
              <a:off x="2786040" y="3902040"/>
              <a:ext cx="5803920" cy="11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3384720" y="3940200"/>
              <a:ext cx="460836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Calibri"/>
                </a:rPr>
                <a:t>Małe elektrownie wodne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Calibri"/>
                </a:rPr>
                <a:t>są za „małe” i jest ich „za dużo”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Calibri"/>
                </a:rPr>
                <a:t>są zbyt „oddalone” od sieci przesyłowej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457200" y="980640"/>
            <a:ext cx="8362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Ścisłe powiązanie rynku usług systemowych z rynkiem bilansującym – od strony regulaminowej, podmiotowej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organizacyjnej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aktycznie ogranicza zakres podmiotowy dostawców usług systemowych do uczestników rynku bilansującego (URB)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ilansowanie handlowego wszystkich odbiorców w KSE poprzez centralny mechanizmu bilansowani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aktycznie przenosi bilansowanie handlowe odbiorców energii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a rynek bilansujący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likwiduje lokalne rynki energii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niechęca i uniemożliwia samo bilansowanie się uczestników rynku energii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Dlaczego rynek usług systemowych taki jest? (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ynek usług systemowych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4EA6-60A7-470A-93D2-95A5C868721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ole tekstowe 7"/>
          <p:cNvSpPr/>
          <p:nvPr/>
        </p:nvSpPr>
        <p:spPr>
          <a:xfrm>
            <a:off x="457200" y="6165720"/>
            <a:ext cx="62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Calibri"/>
              </a:rPr>
              <a:t>* Poza usługą GWS i odbudowy KSE – ale też ogranicza te usług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457200" y="980640"/>
            <a:ext cx="8362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Arbitralne wskazanie* OSP jako jedynego nabywcę usług systemowyc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uniemożliwia innym podmiotom nabywania usług systemowych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woduje brak zainteresowani nabywaniem usług przez OS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granicza katalog usług systemowych tylko do usług niezbędnych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la OSP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Faworyzowanie” niesterowalnych OZE (wiatrowych i foto-woltaicznych) i nieobciążanie ich skutkami zmienności dostępności zdolności wytwórczy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rak zainteresowania przez OZE usługami magazynowaniem energi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Dlaczego rynek usług systemowych taki jest? (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ynek usług systemowych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E46D-1C94-432D-8C36-9D813A52FE4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ole tekstowe 7"/>
          <p:cNvSpPr/>
          <p:nvPr/>
        </p:nvSpPr>
        <p:spPr>
          <a:xfrm>
            <a:off x="457200" y="6165720"/>
            <a:ext cx="62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Calibri"/>
              </a:rPr>
              <a:t>* W rozporządzeniu „systemowym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zakresie katalogu usług systemowyc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usług które zniknęły z katalog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p. kompensacja mocy bierne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owych usłu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agazynowania energi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amo bilansowania uczestników energi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ilansowania obszarowe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zakresie nabywców usług systemowyc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owych nabywców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peratorzy systemów dystrybucyjnych (OS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iesterowalne OZE (wiatrowe i fotowoltaiczn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agregatorzy samo bilansowan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agregatorzy obszarow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Czego brak w obecnym rynku usług systemowych? (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ynek usług systemowych 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6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6FD8-41D0-4693-8B0F-7AE51D4152C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zakresie zasad nabywania usług systemowyc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uelastycznienia zasad nabywania usłu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likwidacja powiązania świadczenia usług systemowych tylko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 rynkiem bilansującym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dejście od przydzielania usług do JWCD i nJWC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abywanie usług systemowych przez OSP „z drugiej ręki”*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– od agregatorów samo bilansowania i agregatorów obszarowy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zakresie stabilizacji pracy niesterowalnych OZE (wiatrowych i fotowoltaicznych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omowania stabilnych O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agazynowanie energi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Czego brak w obecnym rynku usług systemowych? (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ynek usług systemowych 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31B6-68B8-47BC-933F-73756B998E3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ole tekstowe 7"/>
          <p:cNvSpPr/>
          <p:nvPr/>
        </p:nvSpPr>
        <p:spPr>
          <a:xfrm>
            <a:off x="457200" y="6165720"/>
            <a:ext cx="62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Calibri"/>
              </a:rPr>
              <a:t>* Obecnie jest to realizowane w usłudze redukcja zapotrzebowania na polecenie OS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Magazynowanie energ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roste: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agazynowanie wody i maksymalizacja pracy w szczytach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apotrzebowan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łożone: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bór energii z KSE w dolinach na pompowanie wody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generacja energii w szczytach zapotrzebowania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sługa magazynowania energii na potrzeby stabilizacji niesterowalnych OZE (wiatrowych i fotowoltaicznych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Generacja energii na potrzeby samo bilansowanie odbiorcó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ystępowanie z własnymi zasobami wytwórczymi jak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agregatorzy samo bilansowan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agregatorzy obszarow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250920" y="441000"/>
            <a:ext cx="662472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Przyszłościowe usługi systemowe, które mogą być oferowane przez elektrownie wod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ynek usług systemowych  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0B12-049E-402A-836B-58F4BD5D3C7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AutoShape 13"/>
          <p:cNvSpPr/>
          <p:nvPr/>
        </p:nvSpPr>
        <p:spPr>
          <a:xfrm>
            <a:off x="457200" y="2060640"/>
            <a:ext cx="8229600" cy="3600360"/>
          </a:xfrm>
          <a:prstGeom prst="roundRect">
            <a:avLst>
              <a:gd name="adj" fmla="val 8046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Magazynowanie energ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roste: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agazynowanie wody i maksymalizacja pracy w szczytach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apotrzebowani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łożone: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bór energii z KSE w dolinach na pompowanie wody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generacja energii w szczytach zapotrzebowania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sługa magazynowania energii na potrzeby stabilizacji niesterowalnych OZE (wiatrowych i fotowoltaicznych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Generacja energii na potrzeby samo bilansowanie odbiorcó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ystępowanie z własnymi zasobami wytwórczymi jak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agregatorzy samo bilansowan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agregatorzy obszarow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/>
          </p:nvPr>
        </p:nvSpPr>
        <p:spPr>
          <a:xfrm>
            <a:off x="250920" y="441000"/>
            <a:ext cx="662472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Przyszłościowe usługi systemowe – ogranicze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ynek usług systemowych  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6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502E-0AC2-4944-8D65-AF717936881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Objaśnienie ze strzałką w dół 9"/>
          <p:cNvGrpSpPr/>
          <p:nvPr/>
        </p:nvGrpSpPr>
        <p:grpSpPr>
          <a:xfrm>
            <a:off x="4187880" y="676440"/>
            <a:ext cx="4651200" cy="907920"/>
            <a:chOff x="4187880" y="676440"/>
            <a:chExt cx="4651200" cy="907920"/>
          </a:xfrm>
        </p:grpSpPr>
        <p:pic>
          <p:nvPicPr>
            <p:cNvPr id="660" name="Objaśnienie ze strzałką w dół 9" descr=""/>
            <p:cNvPicPr/>
            <p:nvPr/>
          </p:nvPicPr>
          <p:blipFill>
            <a:blip r:embed="rId1"/>
            <a:stretch/>
          </p:blipFill>
          <p:spPr>
            <a:xfrm>
              <a:off x="4187880" y="676440"/>
              <a:ext cx="465120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"/>
            <p:cNvSpPr/>
            <p:nvPr/>
          </p:nvSpPr>
          <p:spPr>
            <a:xfrm>
              <a:off x="4246560" y="716040"/>
              <a:ext cx="453852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ffffff"/>
                  </a:solidFill>
                  <a:latin typeface="Calibri"/>
                </a:rPr>
                <a:t>Wymagane działania wewnętrzne elektrowni wodn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Objaśnienie ze strzałką w górę 10"/>
          <p:cNvGrpSpPr/>
          <p:nvPr/>
        </p:nvGrpSpPr>
        <p:grpSpPr>
          <a:xfrm>
            <a:off x="2097000" y="5626080"/>
            <a:ext cx="4657680" cy="824040"/>
            <a:chOff x="2097000" y="5626080"/>
            <a:chExt cx="4657680" cy="824040"/>
          </a:xfrm>
        </p:grpSpPr>
        <p:pic>
          <p:nvPicPr>
            <p:cNvPr id="663" name="Objaśnienie ze strzałką w górę 10" descr=""/>
            <p:cNvPicPr/>
            <p:nvPr/>
          </p:nvPicPr>
          <p:blipFill>
            <a:blip r:embed="rId2"/>
            <a:stretch/>
          </p:blipFill>
          <p:spPr>
            <a:xfrm>
              <a:off x="2097000" y="5626080"/>
              <a:ext cx="465768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"/>
            <p:cNvSpPr/>
            <p:nvPr/>
          </p:nvSpPr>
          <p:spPr>
            <a:xfrm>
              <a:off x="2158920" y="5911920"/>
              <a:ext cx="453888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ffffff"/>
                  </a:solidFill>
                  <a:latin typeface="Calibri"/>
                </a:rPr>
                <a:t>Wymagane zmiany rozwiązań prawn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6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6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6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6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6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becne regulacje prawne nie są przystosowane do funkcjonowania magazynów energii, gdzie energi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est „na chwilę” pobierana z KSE, by ponownie ją wprowadzić do KSE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 pewnym czasie (elektrownie szczytowo-pompowe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est generowana przez źródła wytwórcze, pobierana „na chwilę”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o magazynu, by ponownie ją wprowadzić do KSE po pewnym czasie (współpraca elektrowni wodnych i niesterowalnych OZ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/>
          </p:nvPr>
        </p:nvSpPr>
        <p:spPr>
          <a:xfrm>
            <a:off x="250920" y="441000"/>
            <a:ext cx="662472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Magazynowanie energii – ograniczenia (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ynek usług systemowych  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8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47B6-3A2A-44CD-82E8-1055D84D01E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oszty usługi przesyłu lub dystrybucji obciążają tylko odbiorcę energii elektrycznej - rozumianego, jako podmiot, który pobiera (nawet tylko chwilowo) energię z siec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skład opłat za usługę przesyłu lub dystrybucji, obciążających odbiorców końcowych, wchodzą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płata jakościowa – na pokrycie kosztów zakupu usług systemowych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płata przejściowa – wynikająca z rozwiązania kontraktów długoterminowych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przyszłości, opłata OZE - wynikająca z kosztów aukcji na źródła OZ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dbiorca ponosi też koszty akcyzy nałożonej na energię elektryczn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250920" y="441000"/>
            <a:ext cx="662472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Magazynowanie energii – ograniczenia (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ynek usług systemowych  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4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E70E-D966-4281-A04E-7BECE172A8E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ewnętrz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ostosowanie elektrowni do możliwości intensywnej pracy szczytowej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obudowywanie członów pompowy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Tworzenie wirtualnych elektrowni złożonych z wielu małych elektrowni wodnych i oferowanie „dużych” porcji usłu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ewnętrz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Tworzenie „nacisku” na OSP na modernizowanie i rozszerzanie rynku usług systemowy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Tworzenie „nacisku” na ustawodawcę w celu zmiany regulacji prawnych umożliwiających świadczenie nowych usług systemowych (szczególnie usługi magazynowania energi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/>
          </p:nvPr>
        </p:nvSpPr>
        <p:spPr>
          <a:xfrm>
            <a:off x="250920" y="441000"/>
            <a:ext cx="813744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Działania zmierzające do zwiększenia uczestnictwa elektrowni wodnych w rynku usług systemowy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ynek usług systemowych 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0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78E7-A600-4E50-A671-03FC5DBE8BC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6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6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6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Szanse i zagrożenia dla elektrowni wodnych wynikające ze zmian na rynku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0675-F9E3-4A5C-AB72-4D086060E8D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odtytuł 9"/>
          <p:cNvSpPr/>
          <p:nvPr/>
        </p:nvSpPr>
        <p:spPr>
          <a:xfrm>
            <a:off x="250920" y="981000"/>
            <a:ext cx="8642160" cy="5000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prowadzenie – wyznaczniki rynków energii w Polsce w perspektywie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lat 2016 – 203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9d9d9"/>
                </a:solidFill>
                <a:latin typeface="Calibri"/>
              </a:rPr>
              <a:t>Rynek energii elektryczn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9d9d9"/>
                </a:solidFill>
                <a:latin typeface="Calibri"/>
              </a:rPr>
              <a:t>Rynek usług systemow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9d9d9"/>
                </a:solidFill>
                <a:latin typeface="Calibri"/>
              </a:rPr>
              <a:t>Rynek mo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9d9d9"/>
                </a:solidFill>
                <a:latin typeface="Calibri"/>
              </a:rPr>
              <a:t>Nowe możliwości dla elektrowni wodn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Szanse i zagrożenia dla elektrowni wodnych wynikające ze zmian na rynku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34E7-5900-4549-BD86-9D8C2E01F5C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odtytuł 9"/>
          <p:cNvSpPr/>
          <p:nvPr/>
        </p:nvSpPr>
        <p:spPr>
          <a:xfrm>
            <a:off x="250920" y="981000"/>
            <a:ext cx="8642160" cy="5000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9d9d9"/>
                </a:solidFill>
                <a:latin typeface="Calibri"/>
              </a:rPr>
              <a:t>Wprowadzenie – wyznaczniki rynków energii w Polsce w perspektywie</a:t>
            </a:r>
            <a:br>
              <a:rPr sz="2000"/>
            </a:br>
            <a:r>
              <a:rPr b="1" lang="pl-PL" sz="2000" spc="-1" strike="noStrike">
                <a:solidFill>
                  <a:srgbClr val="d9d9d9"/>
                </a:solidFill>
                <a:latin typeface="Calibri"/>
              </a:rPr>
              <a:t>lat 2016 – 203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9d9d9"/>
                </a:solidFill>
                <a:latin typeface="Calibri"/>
              </a:rPr>
              <a:t>Rynek energii elektryczn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9d9d9"/>
                </a:solidFill>
                <a:latin typeface="Calibri"/>
              </a:rPr>
              <a:t>Rynek usług systemow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ynek mo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9d9d9"/>
                </a:solidFill>
                <a:latin typeface="Calibri"/>
              </a:rPr>
              <a:t>Nowe możliwości dla elektrowni wodn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dstawowe problemu jednotowarowych rynków energi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Missing money”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ednostki wytwórcze nie chcą uczestniczyć w rynku, na skutek braku pokrycia wszystkich kosztów na konkurencyjnym rynku energii elektrycznej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Missing capacity”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rak zdolności wytwórczych wynikający z braku inwestycji w nowe moce wytwórcze, spowodowanych niskimi cenami energii elektrycznej na zliberalizowanym rynku, na którym elektrownie nie są w stanie uzyskać zwrotu z inwestycji w nowe moce wytwórcz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Dlaczego jest potrzebny rynek mocy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ynek mocy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3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548D-1E74-487F-9CE5-9849AFF2C22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Działania doraź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miana zasad zakupu operacyjnych rezerw mocy od 1 stycznia 2014 roku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prowadzenie zakupu interwencyjnej rezerwy zimnej na okres 2-4 lat od 1 stycznia 2016 roku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djęcie kilku decyzji inwestycyjnych przez Skarb Państwa jako dominującego akcjonariusza w Grupach Energetyczny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Działania doraźne poprawiły sytuację, ale konieczne są głębsze zmiany w rynku energi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Działania doraźne i ich skutecznoś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ynek mocy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9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00CC1-C2D3-458B-AEB1-97FC1B378C2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Działania długofalow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ziałania zmierzają do wypracowania nowej struktury rynku mo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la jednostek wytwórczych istniejących – rynek mo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la jednostek nowobudowanych – kontrakty różnicow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wa rozwiązania rynku mo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centralizowany rynek mo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decentralizowany rynek mo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Działania długofalowe i warianty rozwiąza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ynek mocy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5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D746-3A74-4B4E-9E58-558F3056EA1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owarem jest moc dyspozycyjna certyfikowanych jednostek wytwórczych w roku 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wolumen określany wg prognoz akceptowanych przez Ministra Gospodark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oces certyfikacji jednostek wytwórczych oraz oferujących redukcję obciążenia prowadzą OSP i OSD zgodnie z ustalonymi standardami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przedającymi są operatorzy jednostek wytwórczych oraz podmioty oferujące redukcje obciążeń (DSR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Jedynym kupującym jest operator systemu przesyłowego (OSP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stawowy zakup w roku 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n-4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poprzez aukcję typu notowania jednolite (fixing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ynek wtórny – transakcje między operatorami jednostek wytwórczyc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ywiązanie się z dostaw umownych ilości mocy jest sprawdzane, niedotrzymania są karan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szty zakupu mocy OSP pokrywa z opłat taryfowych płaconych za usługę mocową przez odbiorców końcowych proporcjonalnie do mocy (zamówionej, maksymalnej pobranej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ożliwe przedłużenie kontraktu rocznego na 5 lub 10 lat dla jednostek zmodernizowanych lub nowych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Scentralizowany rynek mocy (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ynek mocy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1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5C5D-0EA7-48B5-AA50-75D73CF7A1B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Scentralizowany rynek mocy (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ynek mocy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6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C4F6-BA35-4863-99A6-81F26764569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Obraz 7" descr=""/>
          <p:cNvPicPr/>
          <p:nvPr/>
        </p:nvPicPr>
        <p:blipFill>
          <a:blip r:embed="rId1"/>
          <a:stretch/>
        </p:blipFill>
        <p:spPr>
          <a:xfrm>
            <a:off x="468360" y="855720"/>
            <a:ext cx="7848720" cy="5057640"/>
          </a:xfrm>
          <a:prstGeom prst="rect">
            <a:avLst/>
          </a:prstGeom>
          <a:ln w="0">
            <a:noFill/>
          </a:ln>
        </p:spPr>
      </p:pic>
      <p:sp>
        <p:nvSpPr>
          <p:cNvPr id="720" name="pole tekstowe 8"/>
          <p:cNvSpPr/>
          <p:nvPr/>
        </p:nvSpPr>
        <p:spPr>
          <a:xfrm>
            <a:off x="536400" y="6237360"/>
            <a:ext cx="815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100" spc="-1" strike="noStrike">
                <a:solidFill>
                  <a:srgbClr val="000000"/>
                </a:solidFill>
                <a:latin typeface="Arial"/>
              </a:rPr>
              <a:t>Źródło: Stanisław Poręba, Maciej Przybylski, „Rynek mocy – model dla Polski”. Konferencja: Rynek mocy – Rozwiązanie dla Polski?, Polski Komitet Światowej Rady Energetycznej, Warszawa, 29 października 2014 r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owarem jest moc dyspozycyjna certyfikowanych jednostek wytwórczych w roku 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wolumen określany wg prognoz akceptowanych przez Ministra Gospodark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oces certyfikacji jednostek wytwórczych oraz oferujących redukcję obciążenia prowadzą OSP i OSD zgodnie z ustalonymi standardami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przedającymi są operatorzy jednostek wytwórczych i jednostki oferujące redukcje obciążeń, którzy rejestrują na TGE prawa majątkowe związane z oferowana moc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upującymi są podmioty zobowiązane – odbiorcy końcowi hurtowi lub sprzedający energie odbiorcom końcowym. Handel odbywa się dwustronnie (kontrakty bilateralne) lub na TGE w różnych formach; brak zakup jest obłożony sankcjam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stawowy zakup w roku 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n-4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w dowolnych formach, podobnie obrót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 rynku wtórnym z udziałem pośrednikó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ywiązanie się z dostaw umownych ilości mocy jest sprawdzane, niedotrzymania są karane przez URE, które umarza świadectwa mocow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SP uczestniczy w rynku na zasadzie zamykającego bilans mocy, kupuje moc dla przyszłych odbiorców i tych którzy nie wywiązali się z obowiązku, koszty zakupu przenosi na te podmiot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Zdecentralizowany rynek mocy (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ynek mocy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4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490C-55A4-477B-86BA-4A0DC93A0F6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Zdecentralizowany rynek mocy (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ynek mocy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9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CAF3-662F-45D9-9AC2-8D1E1D9BFEE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ole tekstowe 8"/>
          <p:cNvSpPr/>
          <p:nvPr/>
        </p:nvSpPr>
        <p:spPr>
          <a:xfrm>
            <a:off x="536400" y="6237360"/>
            <a:ext cx="815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100" spc="-1" strike="noStrike">
                <a:solidFill>
                  <a:srgbClr val="000000"/>
                </a:solidFill>
                <a:latin typeface="Arial"/>
              </a:rPr>
              <a:t>Źródło: Stanisław Poręba, Maciej Przybylski, „Rynek mocy – model dla Polski”. Konferencja: Rynek mocy – Rozwiązanie dla Polski?, Polski Komitet Światowej Rady Energetycznej, Warszawa, 29 października 2014 r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Obraz 9" descr=""/>
          <p:cNvPicPr/>
          <p:nvPr/>
        </p:nvPicPr>
        <p:blipFill>
          <a:blip r:embed="rId1"/>
          <a:stretch/>
        </p:blipFill>
        <p:spPr>
          <a:xfrm>
            <a:off x="515880" y="855720"/>
            <a:ext cx="80168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eny kontraktowe powinny zapewnić opłacalność inwestycji i są ustalane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 uwzględnieniem wszystkich przychodów wytwórców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lanuje się wprowadzenie następujących uwarunkowań działania planowanych kontraktów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bór okresu kontraktowego tak, aby zapewnić stabilizację cen w podstawowym okresie obsługi kapitału 10 – 35 la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ena kontraktowa będzie ustalana w poziomie cen danego roku i będzie indeksowana w kolejnych latach wskaźnikami zależnymi od inflacji, kursu wymiany, kosztów eksploatacyjnych, itp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nwestor/operator jednostki objętej kontraktem różnicowym normalnie funkcjonuje na rynku oraz prowadzi rozliczenia różnicowe z drugą stroną kontraktu różnicoweg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troną kontraktów różnicowych będzie spółka celowa – Zarządca Rozliczeń Różnicowych S. 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zy cenach rynkowych niższych niż cena kontraktowa, wytwórca otrzymuje różnicę, w sytuacji odwrotnej oddaje część przychodów rynkowych wynikającą z różnicy c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Nowe moce wytwórcze – kontrakty różnicow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ynek mocy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7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446B-F141-464C-A705-A68663D15DB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zekazanie materiałów do zmian w regulacjach do Ministerstwa Gospodark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ace w Ministerstwie Gospodarki, opracowanie pierwszej wersji projektów ustawy i rozporządzeń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Formalne projekty zmian, skierowanie projektu do Sejmu i do uzgodnień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 Komisją Europejsk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ierwsze wersje IRiESP i IRiES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akończenie procesu legislacji, uzyskanie akceptacji Komisji Europejskiej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prowadzenie zmian do IRiESP i IRiES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zyjęcie i formalne zatwierdzenie raportu dotyczącego prognoz zapotrzebowania na moc i krzywe popytowo-cenowe na pierwszy rok obowiązywania rynku mocy, zakończenie pierwszego procesu certyfikacji jednostek wytwórczy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akończenie zakupu mocy dyspozycyjnej na określony ro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Nowe moce wytwórcze – kontrakty różnicowe – plan działa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ynek mocy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3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340F-EFB4-4BA8-BF84-8674567DC2A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457200" y="980640"/>
            <a:ext cx="8578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zrost zagrożenie utraty bezpieczeństwa dostaw energii elektrycznej w Pols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tarzejąca się baza wytwórcza – wyłączanie z  ruchu źródeł wyeksploatowanych i nie spełniających norm ekologiczny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ozwój dotowanych, niesterowalnych OZE (głównie elektrowni wiatrowych, w przyszłości fotowoltaicznych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ypieranie z pracy źródeł konwencjonalnych w okresach wietrznych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zy słonecznych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rak generacji w okresach bezwietrznych i bezsłonecznych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bniżanie cen energii elektrycznej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oblem finasowania budowy nowych mocy wytwórczych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udowa nowych jednostek wytwórczych dla domknięcia bilansu mocy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 perspektywie roku 2020 – z bardzo dużym ryzykiem opłacalności inwestycji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rak perspektyw budowy jednostek wytwórczych dla domknięcia bilansu mocy po roku 202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Bilans mocy i bezpieczeństwo pracy K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Wyznaczniki rynków energii w Polsce w perspektywie lat 2016 – 2030 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FF8F-2409-4514-8376-2527069DC2A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becnie trudno wyrokować o ostatecznym kształcie rynku moc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ożliwy do wprowadzenia w latach 2019 – 202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ozliczanie na rynku mocy w latach 2023 – 2024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becne rozwiązania w zakresie kształtu usługi operacyjnej rezerwy mocy, są elementami przygotowywanego rynku moc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Usługa operacyjnej rezerwy mocy jaki i rynek mocy maja ten sam cel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– dostarczyć wytwórcom środków na utrzymanie i rozbudowę bazy wytwórczej energii elektrycznej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d roku 2019 należy spodziewać się rozliczania rezerw mocy w ramach mechanizmu operacyjnej rezerwy moc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atrząc na usługę operacyjnej rezerwy mocy – jako element przyszłego rynku mocy – dobrą strategią przygotowania się do tego rynku, jest posiadanie źródeł wytwórczych świadczących taką usługę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Rynek mocy – kiedy i jaki będzie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ynek mocy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9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1742-994A-4906-9E7E-555394031F1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Szanse i zagrożenia dla elektrowni wodnych wynikające ze zmian na rynku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5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D717-C950-4523-91B4-7231915F661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odtytuł 9"/>
          <p:cNvSpPr/>
          <p:nvPr/>
        </p:nvSpPr>
        <p:spPr>
          <a:xfrm>
            <a:off x="250920" y="981000"/>
            <a:ext cx="8642160" cy="5000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9d9d9"/>
                </a:solidFill>
                <a:latin typeface="Calibri"/>
              </a:rPr>
              <a:t>Wprowadzenie – wyznaczniki rynków energii w Polsce w perspektywie</a:t>
            </a:r>
            <a:br>
              <a:rPr sz="2000"/>
            </a:br>
            <a:r>
              <a:rPr b="1" lang="pl-PL" sz="2000" spc="-1" strike="noStrike">
                <a:solidFill>
                  <a:srgbClr val="d9d9d9"/>
                </a:solidFill>
                <a:latin typeface="Calibri"/>
              </a:rPr>
              <a:t>lat 2016 – 203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9d9d9"/>
                </a:solidFill>
                <a:latin typeface="Calibri"/>
              </a:rPr>
              <a:t>Rynek energii elektryczn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9d9d9"/>
                </a:solidFill>
                <a:latin typeface="Calibri"/>
              </a:rPr>
              <a:t>Rynek usług systemow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9d9d9"/>
                </a:solidFill>
                <a:latin typeface="Calibri"/>
              </a:rPr>
              <a:t>Rynek mo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Nowe możliwości dla elektrowni wodn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250920" y="441000"/>
            <a:ext cx="640872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Produkty i usługi możliwe do oferowania przez elektrownie wodne w przyszłośc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Nowe możliwości dla elektrowni wodnych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1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EA09-D514-4200-9060-3E9C55943F4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4" name=""/>
          <p:cNvGraphicFramePr/>
          <p:nvPr/>
        </p:nvGraphicFramePr>
        <p:xfrm>
          <a:off x="611280" y="987480"/>
          <a:ext cx="7993080" cy="5240160"/>
        </p:xfrm>
        <a:graphic>
          <a:graphicData uri="http://schemas.openxmlformats.org/drawingml/2006/table">
            <a:tbl>
              <a:tblPr/>
              <a:tblGrid>
                <a:gridCol w="5256000"/>
                <a:gridCol w="2737080"/>
              </a:tblGrid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dukt, usłu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9360">
                      <a:solidFill>
                        <a:srgbClr val="c45911"/>
                      </a:solidFill>
                    </a:lnT>
                    <a:lnB w="93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y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9360">
                      <a:solidFill>
                        <a:srgbClr val="c45911"/>
                      </a:solidFill>
                    </a:lnT>
                    <a:lnB w="93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nergia elektrycz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93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ynek energii elektrycznej (RE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93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ynek mocy (R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gazynowanie energii dla wsparcia elektrowni fotowoltaicznych (OZE</a:t>
                      </a:r>
                      <a:r>
                        <a:rPr b="0" lang="pl-PL" sz="20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 rowSpan="5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wy rynek usług systemowych (NRU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gazynowanie energii dla wyrównywania pracy elektrowni wiatrowych (OZE</a:t>
                      </a:r>
                      <a:r>
                        <a:rPr b="0" lang="pl-PL" sz="20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mo bilansowanie grup zakupowych odbiorcó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5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mo bilansowanie grup bilansujących (odbiorców, rozproszonych wytwórców, sterowanych odbiorów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mo bilansowanie obszarów sieciowych np.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ałęzie nn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ałęzie SN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PZ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ałęzie i sekcje 110 kV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 txBox="1"/>
          <p:nvPr/>
        </p:nvSpPr>
        <p:spPr>
          <a:xfrm>
            <a:off x="457200" y="98064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luczem do oferowania nowych produktów i usług jest stworzenie przez elektrownie wodne możliwości do „zintegrowanego gospodarowania” energią („wody*” i elektryczną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Elementy „zintegrowanego gospodarowania” energią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dolność do magazynowanie energii wody i wykorzystywania jej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o produkcji energii elektrycznej w momencie świadczenia usługi, wymagające często zmian w pozwoleniach środowiskowych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dolność do przemiany energii elektrycznej w energię wod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 ponownie w energię elektryczną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yposażenie w systemy IT zarządzające „zintegrowanym gospodaro-waniem” energią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siadanie podmiotów współpracujących: elektrowni fotowoltaicznych (OZE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), elektrowni wiatrowych (OZE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Calibri"/>
              </a:rPr>
              <a:t>W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), sterowanych odbiorów, grup bilansujący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481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Warunki oferowania produktów i usługi przez elektrownie wodne w przyszłości (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Nowe możliwości dla elektrowni wodnych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8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E8C8-70D7-4508-982D-3971A6A6064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ole tekstowe 7"/>
          <p:cNvSpPr/>
          <p:nvPr/>
        </p:nvSpPr>
        <p:spPr>
          <a:xfrm>
            <a:off x="457200" y="6319800"/>
            <a:ext cx="850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Calibri"/>
              </a:rPr>
              <a:t>* „Energia wody” – energia zmagazynowana w wodzie, możliwa do zamiany na energię elektryczną w chwili świadczenia usług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7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7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 txBox="1"/>
          <p:nvPr/>
        </p:nvSpPr>
        <p:spPr>
          <a:xfrm>
            <a:off x="457200" y="98064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luczem do oferowania nowych produktów i usług przez elektrownie wodne, po stronie zarzadzania KSE są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stworzenie możliwości istnienia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ynku mocy (najlepiej w wersji zdecentralizowanej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lokalnych rynków energii elektrycznej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owego rynku usług systemowych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amo bilansowania uczestników rynku energii (poprzez grupy bilansujące i samo dysponując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występowania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źródeł fotowoltaicznych prosumenckich (dachowych i przydomowych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źródeł wiatrowych zainteresowanych stabilizacją swojej generacji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ainteresowania OSD optymalizacją pracy sieci dystrybucyjnej przy współpracy z uczestnikami ryn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481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Warunki oferowania produktów i usługi przez elektrownie wodne w przyszłości (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Nowe możliwości dla elektrowni wodnych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F611-09AB-4D97-B29A-5BD1EC6BF51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250920" y="441000"/>
            <a:ext cx="785016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Produkty i usługi możliwe do oferowania przez poszczególne typy elektrowni wodnych w przyszłości (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Nowe możliwości dla elektrowni wodnych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0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5C2B-CAC7-473F-AC5B-130F95F5F18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468360" y="836640"/>
          <a:ext cx="8424720" cy="5272200"/>
        </p:xfrm>
        <a:graphic>
          <a:graphicData uri="http://schemas.openxmlformats.org/drawingml/2006/table">
            <a:tbl>
              <a:tblPr/>
              <a:tblGrid>
                <a:gridCol w="1239840"/>
                <a:gridCol w="1495440"/>
                <a:gridCol w="1439640"/>
                <a:gridCol w="1465560"/>
                <a:gridCol w="1392120"/>
                <a:gridCol w="1392120"/>
              </a:tblGrid>
              <a:tr h="852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yp elektrow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9360">
                      <a:solidFill>
                        <a:srgbClr val="c45911"/>
                      </a:solidFill>
                    </a:lnT>
                    <a:lnB w="93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żliwość „zintegrowanego gospodarowania” energi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9360">
                      <a:solidFill>
                        <a:srgbClr val="c45911"/>
                      </a:solidFill>
                    </a:lnT>
                    <a:lnB w="93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dział w rynka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9360">
                      <a:solidFill>
                        <a:srgbClr val="c45911"/>
                      </a:solidFill>
                    </a:lnT>
                    <a:lnB w="93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arunki niezbęd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9360">
                      <a:solidFill>
                        <a:srgbClr val="c45911"/>
                      </a:solidFill>
                    </a:lnT>
                    <a:lnB w="93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zycho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9360">
                      <a:solidFill>
                        <a:srgbClr val="c45911"/>
                      </a:solidFill>
                    </a:lnT>
                    <a:lnB w="93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Środki na utrzymanie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 rozwó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9360">
                      <a:solidFill>
                        <a:srgbClr val="c45911"/>
                      </a:solidFill>
                    </a:lnT>
                    <a:lnB w="93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W przepływow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93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r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93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ynek 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93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dukcja energii elektryczne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93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isk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93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 rynku energii i dotacj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93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4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W z piętrzeni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k, obecnie mała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 zmianach śred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ynek 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ynek mo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wy rynek 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prowadzenie nowego rynku US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prowadzenie rynku mo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iskie -&gt; śred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 rynku energii, usług i mo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136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W z piętrzeni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k, śred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ynek 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ynek mo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wy rynek US Magazynowanie energii dla wsparcia OZE</a:t>
                      </a:r>
                      <a:r>
                        <a:rPr b="0" lang="pl-PL" sz="1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zwój OZE</a:t>
                      </a:r>
                      <a:r>
                        <a:rPr b="0" lang="pl-PL" sz="1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prosumenckich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prowadzenie nowego rynku US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prowadzenie rynku mo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Średnie -&gt; wysok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 rynku energii, usług i mo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08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gazynowanie energii dla wyrównywania pracy OZE</a:t>
                      </a:r>
                      <a:r>
                        <a:rPr b="0" lang="pl-PL" sz="1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zbudowa o człony pompow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ZE</a:t>
                      </a:r>
                      <a:r>
                        <a:rPr b="0" lang="pl-PL" sz="1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zainteresowane stabilizacją generac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/>
          </p:nvPr>
        </p:nvSpPr>
        <p:spPr>
          <a:xfrm>
            <a:off x="250920" y="441000"/>
            <a:ext cx="785016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Produkty i usługi możliwe do oferowania przez poszczególne typy elektrowni wodnych w przyszłości (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Nowe możliwości dla elektrowni wodnych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6818-D309-44D5-82E3-0BB8CE1B8D2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9" name=""/>
          <p:cNvGraphicFramePr/>
          <p:nvPr/>
        </p:nvGraphicFramePr>
        <p:xfrm>
          <a:off x="468360" y="1697040"/>
          <a:ext cx="8424720" cy="1660680"/>
        </p:xfrm>
        <a:graphic>
          <a:graphicData uri="http://schemas.openxmlformats.org/drawingml/2006/table">
            <a:tbl>
              <a:tblPr/>
              <a:tblGrid>
                <a:gridCol w="1239840"/>
                <a:gridCol w="1495440"/>
                <a:gridCol w="1512720"/>
                <a:gridCol w="1392480"/>
                <a:gridCol w="1392120"/>
                <a:gridCol w="1392120"/>
              </a:tblGrid>
              <a:tr h="853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yp elektrow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9360">
                      <a:solidFill>
                        <a:srgbClr val="c45911"/>
                      </a:solidFill>
                    </a:lnT>
                    <a:lnB w="93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żliwość „zintegrowanego gospodarowania” energi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9360">
                      <a:solidFill>
                        <a:srgbClr val="c45911"/>
                      </a:solidFill>
                    </a:lnT>
                    <a:lnB w="93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dział w rynka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9360">
                      <a:solidFill>
                        <a:srgbClr val="c45911"/>
                      </a:solidFill>
                    </a:lnT>
                    <a:lnB w="93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arunki niezbęd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9360">
                      <a:solidFill>
                        <a:srgbClr val="c45911"/>
                      </a:solidFill>
                    </a:lnT>
                    <a:lnB w="93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zycho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9360">
                      <a:solidFill>
                        <a:srgbClr val="c45911"/>
                      </a:solidFill>
                    </a:lnT>
                    <a:lnB w="93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Środki na utrzymanie i rozwó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9360">
                      <a:solidFill>
                        <a:srgbClr val="c45911"/>
                      </a:solidFill>
                    </a:lnT>
                    <a:lnB w="93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S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93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k, duż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93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wy rynek 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93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93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uż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93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 rynku energii</a:t>
                      </a:r>
                      <a:r>
                        <a:rPr b="0" lang="pl-PL" sz="1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sług i mo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93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wy rynek US Rynek moc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we jednostki wytwórc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/>
          </p:nvPr>
        </p:nvSpPr>
        <p:spPr>
          <a:xfrm>
            <a:off x="250920" y="441000"/>
            <a:ext cx="763416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Przykładowe roczne przychody z rynku energii i rynku moc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Nowe możliwości dla elektrowni wodnych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2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FB62-D76E-492F-95C4-146213413B0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5" name=""/>
          <p:cNvGraphicFramePr/>
          <p:nvPr/>
        </p:nvGraphicFramePr>
        <p:xfrm>
          <a:off x="547560" y="1484280"/>
          <a:ext cx="8136000" cy="4587840"/>
        </p:xfrm>
        <a:graphic>
          <a:graphicData uri="http://schemas.openxmlformats.org/drawingml/2006/table">
            <a:tbl>
              <a:tblPr/>
              <a:tblGrid>
                <a:gridCol w="2159280"/>
                <a:gridCol w="2009520"/>
                <a:gridCol w="3967200"/>
              </a:tblGrid>
              <a:tr h="549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yn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zychody jednostko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zykładowa 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7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ynek mo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0 – 300 tys. zł/MW/r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c 0,5 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zas wykorzystania 3 000 h/r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46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ynek EE – sprzedaż 100% w paśmie bez przychodów z RUS/mo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0 zł/MW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0 000 zł/r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44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ynek EE – sprzedaż 30% w paśmie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0% w szczyci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 Sprzedaż mo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0 zł/MW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0 zł/MW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0 000 zł/MW/r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47 500 zł/r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45911"/>
                      </a:solidFill>
                    </a:lnL>
                    <a:lnR w="5760">
                      <a:solidFill>
                        <a:srgbClr val="c45911"/>
                      </a:solidFill>
                    </a:lnR>
                    <a:lnT w="5760">
                      <a:solidFill>
                        <a:srgbClr val="c45911"/>
                      </a:solidFill>
                    </a:lnT>
                    <a:lnB w="5760">
                      <a:solidFill>
                        <a:srgbClr val="c4591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/>
          </p:nvPr>
        </p:nvSpPr>
        <p:spPr>
          <a:xfrm>
            <a:off x="250920" y="441000"/>
            <a:ext cx="763416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Podsumowan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Nowe możliwości dla elektrowni wodnych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8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3794-627B-4C92-86F6-4C0910B08DE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owe możliwości dla elektrowni wodnych są uwarunkowa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ewnętrzn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prowadzeniem „zintegrowanego gospodarowania” energią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maksymalizacja magazynowania energii wod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zarządzanie generacją energii elektrycznej dla potrzeb lokalnych uczestników rynk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ewnętrzn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tworzenie w KSE nowych rynków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mo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sług systemowy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Szanse i zagrożenia dla elektrowni wodnych wynikające ze zmian na rynku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Symbol zastępczy daty 2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Symbol zastępczy stopki 3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Symbol zastępczy numeru slajdu 4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12CE-550C-4D75-83AA-555FE122FAC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ole tekstowe 11"/>
          <p:cNvSpPr/>
          <p:nvPr/>
        </p:nvSpPr>
        <p:spPr>
          <a:xfrm>
            <a:off x="2411280" y="177336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e46c0a"/>
                </a:solidFill>
                <a:latin typeface="Calibri"/>
              </a:rPr>
              <a:t>Dziękujemy za uwag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estrykcyjne i często zmieniane regulacje unij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zybki rozwój niesterowalnych jednostek wytwórczych (głównie elektrowni wiatrowych i fotowoltaicznych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rak efektywnych mechanizmów stymulujące elastyczność popyt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rak istotnych różnic w cenie energii w szczycie zapotrzebowania i poza nim sprzyja wzrostowi poboru szczytowe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Warunki funkcjonowania K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Wyznaczniki rynków energii w Polsce w perspektywie lat 2016 – 2030 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BDC1-1B6D-429D-A07B-3BAB4953307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 roku 2020 po wyłączeniu eksploatacji kolejnych jednostek  wytwórczych, ujemny bilans mocy w KSE staje się problemem strukturalnym i występuje we wszystkich scenariuszach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grożenie bezpieczeństwa dostaw energii wynika z niedostatecznego zbilansowania mocy wytwórczych z zapotrzebowaniem i/lub niewłaściwej struktury technologicznej moc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Przyszłość K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Wyznaczniki rynków energii w Polsce w perspektywie lat 2016 – 2030 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8439-C66C-4024-9C45-A8D51F8DAA4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Szanse i zagrożenia dla elektrowni wodnych wynikające ze zmian na rynku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8680-4669-497F-BDAE-97C4888A3F7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odtytuł 9"/>
          <p:cNvSpPr/>
          <p:nvPr/>
        </p:nvSpPr>
        <p:spPr>
          <a:xfrm>
            <a:off x="250920" y="981000"/>
            <a:ext cx="8642160" cy="5000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9d9d9"/>
                </a:solidFill>
                <a:latin typeface="Calibri"/>
              </a:rPr>
              <a:t>Wprowadzenie – wyznaczniki rynków energii w Polsce w perspektywie</a:t>
            </a:r>
            <a:br>
              <a:rPr sz="2000"/>
            </a:br>
            <a:r>
              <a:rPr b="1" lang="pl-PL" sz="2000" spc="-1" strike="noStrike">
                <a:solidFill>
                  <a:srgbClr val="d9d9d9"/>
                </a:solidFill>
                <a:latin typeface="Calibri"/>
              </a:rPr>
              <a:t>lat 2016 – 203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ynek energii elektryczn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9d9d9"/>
                </a:solidFill>
                <a:latin typeface="Calibri"/>
              </a:rPr>
              <a:t>Rynek usług systemow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9d9d9"/>
                </a:solidFill>
                <a:latin typeface="Calibri"/>
              </a:rPr>
              <a:t>Rynek mo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9d9d9"/>
                </a:solidFill>
                <a:latin typeface="Calibri"/>
              </a:rPr>
              <a:t>Nowe możliwości dla elektrowni wodn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601"/>
              </a:spcAft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eny hurtowe energii elektrycznej istotnie spadły w ostatnich trzech latac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bniżenie tempa wzrostu gospodarczego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iższe zapotrzebowanie na energię elektryczną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zybko rosnącego udziału dotowanej energii z elektrowni wiatrowy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kontraktach terminowych utrzymuje się bardzo niski poziom c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dobna sytuacja utrzymuje się na rynkach w sąsiednich krajach (na rynku niemieckim, czeskim i słowackim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Podstawowy problem – niskie ceny (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ynek energii elektrycznej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F7A6-9E0B-4B35-A618-9F576A9E765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45720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olumen i średnia cena energii elektrycznej na TGE w latach 2008-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250560" y="441000"/>
            <a:ext cx="626580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Podstawowy problem – niskie ceny (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title"/>
          </p:nvPr>
        </p:nvSpPr>
        <p:spPr>
          <a:xfrm>
            <a:off x="250560" y="133200"/>
            <a:ext cx="6265800" cy="308160"/>
          </a:xfrm>
          <a:prstGeom prst="rect">
            <a:avLst/>
          </a:prstGeom>
          <a:solidFill>
            <a:srgbClr val="ef7d0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ynek energii elektrycznej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Symbol zastępczy daty 4"/>
          <p:cNvSpPr/>
          <p:nvPr/>
        </p:nvSpPr>
        <p:spPr>
          <a:xfrm>
            <a:off x="3214800" y="665172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Warszawa, 22 maja 2015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ymbol zastępczy stopki 5"/>
          <p:cNvSpPr/>
          <p:nvPr/>
        </p:nvSpPr>
        <p:spPr>
          <a:xfrm>
            <a:off x="6246720" y="66517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Towarzystwo Elektrowni Wod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ymbol zastępczy numeru slajdu 6"/>
          <p:cNvSpPr/>
          <p:nvPr/>
        </p:nvSpPr>
        <p:spPr>
          <a:xfrm>
            <a:off x="-9360" y="6492960"/>
            <a:ext cx="109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CA7B-15A5-4C32-8F8E-E3B5EB6F006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Chart 50293" descr=""/>
          <p:cNvPicPr/>
          <p:nvPr/>
        </p:nvPicPr>
        <p:blipFill>
          <a:blip r:embed="rId1"/>
          <a:stretch/>
        </p:blipFill>
        <p:spPr>
          <a:xfrm>
            <a:off x="1322280" y="1841400"/>
            <a:ext cx="6712200" cy="2889360"/>
          </a:xfrm>
          <a:prstGeom prst="rect">
            <a:avLst/>
          </a:prstGeom>
          <a:ln w="0">
            <a:noFill/>
          </a:ln>
        </p:spPr>
      </p:pic>
      <p:sp>
        <p:nvSpPr>
          <p:cNvPr id="482" name="Prostokąt 9"/>
          <p:cNvSpPr/>
          <p:nvPr/>
        </p:nvSpPr>
        <p:spPr>
          <a:xfrm>
            <a:off x="1274760" y="4724280"/>
            <a:ext cx="676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Źródło: TGE – stan na dzień 31.12.2013,według daty dostawy, dane za lata 2008-2013 na podstawie notowań z RDN, RTT i RDB, lata 2014-2016 na podstawie notowań z RTT, za E&amp;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0T14:37:53Z</dcterms:created>
  <dc:creator>Stanisław Poręba, Jan Rakowski</dc:creator>
  <dc:description>Wersja 2.0., 19 maja 2015 r.</dc:description>
  <dc:language>en-US</dc:language>
  <cp:lastModifiedBy>Admin</cp:lastModifiedBy>
  <dcterms:modified xsi:type="dcterms:W3CDTF">2015-05-21T20:05:25Z</dcterms:modified>
  <cp:revision>265</cp:revision>
  <dc:subject/>
  <dc:title>Prezentacja dla TEW</dc:title>
</cp:coreProperties>
</file>