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A80-F888-415E-B1FE-E142C3AECFA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45C-1D06-4783-B198-1BF9573812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8701-FD5E-4D60-BCE9-2959955DB9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908-E186-48FA-A55B-C0965FC0AE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DA6B-F715-4335-B8DA-A55C18BAC8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C9EE-44BF-49A3-BED6-B9903F69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5FBB-B7AC-47CE-8540-78BC7A41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55711-AEF5-4E60-B2AE-F17A3069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694E0-30D7-4C61-BBB4-582B855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E9D41-16E1-4C39-A31D-8B997E7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9963-D5C7-4167-859C-1206DD3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918B-98BA-44F3-8EB4-80D2F40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519C-F4CD-432F-A616-1C1BF5D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4C5C-96CC-4BF7-BF26-A5842AA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29799-50C6-473E-8F06-7935DE50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DF874-A994-46B9-BD52-9A76A416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9E05-DFCD-47BD-81ED-8AFCAA5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9F7-5A59-40A5-A553-00A4F871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FED-F872-46C6-A821-CA079954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5CE-BC6E-4C56-83D6-33021EB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94EA-F9C2-4CB8-8161-080DFF3C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7FF-0962-4E9C-B18F-4AFCE17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B8D3-996D-46B4-A3F9-C27BD93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8C35-56B7-451E-89BD-772E6EF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FED-81F4-41FF-83B3-EB2328E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2E15-DF01-4391-9CA0-F579C716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F279-8103-4D3A-98ED-B498875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3C1-CA02-4709-BB75-C1C9C30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0F12-7F0C-456E-95CD-0E795D6B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53E3-544A-42E7-9DC5-185A4D19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825-2F08-4455-9732-0DB60984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8AF9-B667-4E78-BB36-490B828C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908B-5CFA-460A-9483-67149EA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CF60-DB27-4664-B5D0-190C6B9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EDC2-A8C8-4B22-B697-C4CA4A27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89D0-E1F3-410C-AF36-0763201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DAC-C7CC-4CDD-96C5-CDB6C4B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97B1-4883-4DA7-AFAE-C33BDDA3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E83C-E624-4D72-8188-2E8C830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551A-9E17-41B1-9086-BBC9EB9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C129-4F50-4BD1-A262-B406521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069A-C7D0-46A3-87E5-98CF7F2C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0EFD-7865-4582-AD2B-CC524646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8384-01E8-4985-8BCC-07F4FD3C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2EA2-8E17-4E3A-9059-FE6DF8F9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6344-4039-4448-B8A3-54C7465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556B-008C-4203-85DF-8F5A6E73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7B33-1F80-4269-BCAC-DC092F2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CA15-588A-495D-895E-6E697FE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AE88-3AAD-4EBC-AE08-F09251D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D3D3-FBC5-442A-B5E0-C729E3EB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6CF2-1DEF-49F8-BE10-20632F2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7C3E-8F8F-48A8-B5C1-547E1E4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E892-BFDB-4057-A7D9-F198BE4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606C-E5F2-45B3-8D49-51A59A2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8BFE-C801-4DC2-9B12-A05F68A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9FE2B-7A5C-41CB-B332-EF913FBE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1534-0EEB-4B9B-90E8-AE789452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DF20-87E5-4201-8D5C-D24C50CA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1C3D0-55E3-45E2-AED7-0687116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DBA3-35BA-438B-BDED-D2FB471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A7A9-924D-4EC5-978A-EC1F74D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36B7-C936-42F0-B4FC-7AE78B8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8C1F-22C2-4A82-B5EB-CCC02B7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1CC1-4F27-49F5-925F-1430A513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7ADE2-564F-4834-89EE-9795F35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FE02-14DD-400E-A6C8-BA29D4A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4BD7-6A5B-4AA4-A17B-0C69566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9870-C2A2-4893-80D2-3C3F12C8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A009-FED2-4297-A1DD-81BA7F1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43AE-F06D-4965-B2C6-29293CA7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0ADFDA-9433-492C-B4C7-2742D996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D6BA7-38C1-4E20-813C-A917C937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8E1D0-BBAB-4DA6-9B44-54965820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AA838-CB25-4E0C-9D7C-5255955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CD3DB-13AA-4AF0-9C4A-7B8FA60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92794-1C8D-4D46-A7A1-F5EAD0F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27113-C0EF-4C52-9955-7FA5B96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CBEDBD-0776-45EE-8478-9047BA3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2AA445-9947-4BDB-B4C8-C706362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F8D9-D36D-463C-A5DE-013E7FE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BEFD6B-A02A-4E74-BA17-605DD1E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54AF6-92C9-48F3-9BD8-D751793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7C7ACE-6B5E-4A45-9D1C-44F8C2C6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374AD-0124-4846-8039-308A4838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6A6C5C-AEAF-4225-8B84-6E3D85B6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E42204-C09F-4387-8097-C5A2CB4D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0E0F3-29AB-41EC-99F0-81BA2F1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C03647-0FEB-4ABA-9019-FD05CAB0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465FD0-A123-4DF1-AC43-810629E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55484-F17F-4A4E-ABF0-63619EE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4995-91D0-47DF-A00E-1693E8D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65989-FFBB-45EC-97BF-1EFFE4F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EBBB0-96E8-465C-9E30-F82246C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A8E80-9B98-40FA-8DC7-AE82A10C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B4C16-EEB6-447E-961E-6E6B6641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E17FAB-E423-4579-A633-8E00762B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AB11-BCEA-4229-9D1B-5A8D9946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DA36A-60A0-43C5-A1B0-40300B5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0483-45E0-4832-B716-2641A99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15FF-6209-4470-B012-B25CE48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423E-975F-4D95-B442-005E5AF8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199B-DC68-412A-B5A4-4D490BC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07C1-C297-4CF4-B8CC-A5B8DD44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BFE9-AC2B-4755-85B1-4648A61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71F9-A75A-4F15-B614-CD6905A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5BEC-EA0B-48D9-A4DF-ABDD2CAB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CB97-54CF-4EE5-88A1-22A68CC4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97E0-AD59-4AE0-A1F0-EBDCD542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E877-F09A-44A3-ACB5-50E04D3C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F2054-0D78-420E-ABB3-634465EE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941D5-CF87-4781-8776-068A0D0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B6BC-22EF-4744-8E3C-CD19721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D76C-EA41-4396-86EF-4E18A369BF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900000" y="3870360"/>
            <a:ext cx="1443240" cy="1778040"/>
          </a:xfrm>
          <a:prstGeom prst="rect">
            <a:avLst/>
          </a:prstGeom>
          <a:ln w="0">
            <a:noFill/>
          </a:ln>
        </p:spPr>
      </p:pic>
      <p:pic>
        <p:nvPicPr>
          <p:cNvPr id="50" name="Obraz 1" descr=""/>
          <p:cNvPicPr/>
          <p:nvPr/>
        </p:nvPicPr>
        <p:blipFill>
          <a:blip r:embed="rId3"/>
          <a:stretch/>
        </p:blipFill>
        <p:spPr>
          <a:xfrm>
            <a:off x="2343240" y="593640"/>
            <a:ext cx="444492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5D8-D0CE-41A7-8B07-4C00ED81A6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0" descr="JR.JPG"/>
          <p:cNvPicPr/>
          <p:nvPr/>
        </p:nvPicPr>
        <p:blipFill>
          <a:blip r:embed="rId2"/>
          <a:stretch/>
        </p:blipFill>
        <p:spPr>
          <a:xfrm>
            <a:off x="6145200" y="2414520"/>
            <a:ext cx="196848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Obraz 10" descr="logo.jpg"/>
          <p:cNvPicPr/>
          <p:nvPr/>
        </p:nvPicPr>
        <p:blipFill>
          <a:blip r:embed="rId3"/>
          <a:stretch/>
        </p:blipFill>
        <p:spPr>
          <a:xfrm>
            <a:off x="5940360" y="4221000"/>
            <a:ext cx="2286000" cy="884520"/>
          </a:xfrm>
          <a:prstGeom prst="rect">
            <a:avLst/>
          </a:prstGeom>
          <a:ln w="0">
            <a:noFill/>
          </a:ln>
        </p:spPr>
      </p:pic>
      <p:pic>
        <p:nvPicPr>
          <p:cNvPr id="98" name="Obraz 3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444492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Obraz 4" descr=""/>
          <p:cNvPicPr/>
          <p:nvPr/>
        </p:nvPicPr>
        <p:blipFill>
          <a:blip r:embed="rId5"/>
          <a:stretch/>
        </p:blipFill>
        <p:spPr>
          <a:xfrm>
            <a:off x="1619280" y="2698920"/>
            <a:ext cx="2246400" cy="150156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1547640" y="443700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DAB5-8F78-4A32-840D-33F7141DCC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ECEE-7A14-4659-A040-795F1A094C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E57-3816-4747-9FA5-000BA682BC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0B9-F2AC-4F02-878E-72EB1834FE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1D90-0D07-4BE8-8120-336744304F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dt" idx="2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E9C5-F7F1-41B4-975E-56A436E81D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Obraz 10" descr="logo.jpg"/>
          <p:cNvPicPr/>
          <p:nvPr/>
        </p:nvPicPr>
        <p:blipFill>
          <a:blip r:embed="rId2"/>
          <a:stretch/>
        </p:blipFill>
        <p:spPr>
          <a:xfrm>
            <a:off x="8259840" y="4365720"/>
            <a:ext cx="882720" cy="2286000"/>
          </a:xfrm>
          <a:prstGeom prst="rect">
            <a:avLst/>
          </a:prstGeom>
          <a:ln w="0">
            <a:noFill/>
          </a:ln>
        </p:spPr>
      </p:pic>
      <p:sp>
        <p:nvSpPr>
          <p:cNvPr id="377" name="Tytuł 7"/>
          <p:cNvSpPr/>
          <p:nvPr/>
        </p:nvSpPr>
        <p:spPr>
          <a:xfrm rot="5400000">
            <a:off x="6669360" y="2050200"/>
            <a:ext cx="4176720" cy="3078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Kliknij, aby edytować st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5BB-9564-4915-BECA-7DE6B1BAC1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934560" y="1995480"/>
            <a:ext cx="733284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miany w otoczeniu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vs zmiany w elektroenergety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ole tekstowe 1"/>
          <p:cNvSpPr/>
          <p:nvPr/>
        </p:nvSpPr>
        <p:spPr>
          <a:xfrm>
            <a:off x="4356000" y="4292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tanisław Porę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an Rak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ole tekstowe 4"/>
          <p:cNvSpPr/>
          <p:nvPr/>
        </p:nvSpPr>
        <p:spPr>
          <a:xfrm>
            <a:off x="5651640" y="58723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rszawa, 22.05.201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ierwszych latach liberalizacji rynku energią ujawniły się zagrożenia dla bezpieczeństwa dostaw, które zmaterializowały się w kilku krajach (Kalifornia, Włoch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2006 roku wprowadzono dyrektywę o bezpieczeństwie dostaw energii i inwestycji energetycznych, na jej podstawie kilka krajów UE wprowadziły płatności mo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ynki hurtowe, powiązane z rynkami finansowymi, spłaszczają ceny energii, osłabiając, a nawet eliminując sygnały dla odbiorców, inwestorów i operator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lejne zagrożenia wprowadza bardzo szybki rozwój OZE, zwłaszcza w technologiach niesterowalnych (wiatr i PV), dla ich eliminacji w kilku krajach wprowadzono lub przygotowuje się wprowadzenie rynku mo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Bezpieczeństwo dostaw energ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EDB9-FB41-438A-B8E3-83902CC343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C1B3-4855-497C-8A0D-6FED009902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DBCD-3386-4DE5-8A99-0257DF653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kcja GHG ogranicza możliwość funkcjonowania jednostek węglowych i gaz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jny program opanowania technologii wychwytywania i składowania (CCS) lub przetwarzania (CCU) CO2 praktycznie jest zawieszony, bo tempo zmian celów redukcyjnych nie pozwala na przeprowadzenie normalnego cyklu badawczo-rozwojow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e problemy mają inne technologie „czystego” wykorzystywania węg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mniej węgiel będzie miał istotny udział jeszcze przez wiele lat, USA planują na 2040 rok 40% udziału węgla w wytwarzaniu energii elektrycznej. Polska i Niemcy pewnie będą miały podobny udzi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 - O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879-5989-4ADE-A4FA-A81ADE395E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OZE ma dwa stymulatory rozwoj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dukcja emisji GH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rost bezpieczeństwa energetycznego poprzez wykorzystywanie krajowych zasobó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szybszy rozwój notują technologie wiatrowe i PV, mają krótki okres budowy, są mniej czułe na profesjonalizm inwestorów i operatorów, są najbardziej wspierane przez  ogromne środki dot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chnologie biomasowe maja porównywalne warunki rozwojowe do PV i wiatru tylko w niektórych krajach, m.in. w Polsce przez kilka lat do 2012 rok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ogół najmniej preferowaną technologią OZE są elektrownie wodne, pomimo, że mając możliwości magazynowania, powinny mieć prioryt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miany technologii wytwarzania – źródła rozprosz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8755-C642-4A33-87AB-BD5B4B0788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łówne stymulatory rozwoj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blemy z lokalizacja dużych źróde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technologiczny powodujący spadek kosztów jednostk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powiązania z lokalnymi magazynami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ielu krajach te źródła mają również priorytet dotacyj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ie jak dla dużych źródeł PV i wiatrowych, podstawową barierą rozwoju jest brak dojrzały technologii magazynowania energii oraz przebudowa sieci dystryb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ielu lokalizacjach małe elektrownie wodne z piętrzeniem mogą być istotnym elementem lokalnego obszaru bilansowania, konieczne są spójne działania prosumentów i mikroproducentów z operatorami sieciowymi i operatorami M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DDC-22EA-4E72-9BE3-C78709E289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ez stabilnego, ewolucyjnego programu wdrażania rynku, na ogół powstają napięcia, zagrożenia i kryzysy, tworzy się też szara i czarna stre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stety w Unii Europejskiej, pomimo wielu regulacji brak takiego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ytuację pogarsza ustanowienie najwyższego priorytetu dla ochrony klimatu bez spójnego programu osiągania założonych celów, poszczególne kraje mają różne możliwości dot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ieczne są działania na poziomie UE (np. w ramach tworzenia unii energetycznej) dla szybkiej poprawy sytuacji, bo obecny rynek  kreuje wręcz fałszywe sygnał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budowy rynku konkurencyjne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570-EBA0-4D79-8432-13A5D51C01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ekwencją fałszywych sygnałów rynkowych jest br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tarczających przychodów dla operatorów jednostek wytwórczych, których moc jest niezbędna dla zapewnienia bezpieczeństwa dosta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ryzyko dla inwestorów jednostek w sterowalnych technologiach, na ogół nie wspieranych dotacyjn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isja Europejska próbuje rozwiązać problem poprzez ulepszenie obecnego modelu rynku, ale bez wycofania dotacji są małe sza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ęść krajów wprowadza rynki mocy lub mechanizmy mocowe oraz kontrakty różnicowe, pomimo pozornych rozbieżności z regulacjami KE, uzyskują jej akceptacj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bezpieczeństwa dosta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399-31EF-4A65-BAE8-CD6D0C655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spójne cele strategiczne dla sektora i regulacje, zmiany technologiczne, wspieranie dotacyjne niedojrzałych technologii wymagają istotnych zmian w modelu zarzadzania systemem energetyczny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e problemy mają systemy zarządzane centralnie, najmniej odporne na szybkie zmiany w otoczeniu i sektorze, Polska ma zarządzanie centralne, m.in. Jest jednym z dwu krajów UE, które nie mają elementów samo-dysponowania czy samo-bilansow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entralizacja i zwiększenie odpowiedzialności  uczestników rynku za fizyczną realizację zawartych umów sprzedaży energii jest warunkiem zapewnienia bezpieczeństwa dostaw w szybko zmieniających się warunk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blemy zarządzania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CD77-B92F-48D9-92CA-729040C70E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Symbol zastępczy daty 2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stopki 3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ymbol zastępczy numeru slajdu 4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FC9D-4489-406C-BED7-269EE36DC9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ole tekstowe 11"/>
          <p:cNvSpPr/>
          <p:nvPr/>
        </p:nvSpPr>
        <p:spPr>
          <a:xfrm>
            <a:off x="2411280" y="177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46c0a"/>
                </a:solidFill>
                <a:latin typeface="Calibri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C47C-7973-45C1-AD3A-83735E1B7B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A823-2308-4911-8B24-92FC587481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80640"/>
            <a:ext cx="85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wencja Klimatyczna z 1992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ólne zobowiązanie do działań na rzecz ochrony klimatu i niedopuszczenia do wzrostu temperatury na powierzchni Ziemi więcej    niż 2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ałe badania zakresu i przyczyn zmian klima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oroczne Konferencje Stron Konwencji (Conference of the Parties – COP) dla oceny sytuacji i podejmowania stosownych działa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55320" indent="-355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P Kioto 1997 i dalsze dział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wsze zobowiązania krajów rozwiniętych do redukcji emisji gazów cieplarnianych (GHG) w 2012 r. o ustalony procent w stosunku do 1990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ększość krajów dotrzymała zobowiąza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dłużenie zobowiązań Kioto do 2020r. dla części kraj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gotowywane nowe porozumienie o redukcjach po 2020r. na COP w Paryżu w b.r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55320" indent="-355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Globalna polityka klimatycz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E5B-6958-4561-89EF-0E679AD2F2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chrona klimatu i środowiska mają istotny wpływ na funkcjonowanie UE od początków jej istni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apewnienia uzyskania redukcji emisji GHG wg zobowiązań z Kioto (8%), dyrektywą z 2003 roku wprowadzono od 2005 roku Europejski System Handlu Emisjami (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da Europejska w marcu 2007 roku przyjęła nową politykę klimatyczną z bardzo ambitnymi celami redukcji GHG (3x20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gulacje wykonawcze na okres do 2020 roku zostały wydane w 2009 roku jako Pakiet Klimaty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ździerniku 2014 roku, Rada Europejska przyjęła kolejne cele ochrony klimatu do 2030 roku – redukcja GHG o 40%, udział i poprawa efektywności energetycznej o2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nijna polityka klimatycz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FCC-7034-4FFC-BF2E-3284B014E8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oletni okres globalnego rozwoju gospodarczego został przerwany w 2009 roku, spadek rozwoju dotknął wszystkie kraje UE, a niektóre z nich jeszcze nie mogą go przezwycięży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zysowy spadek produkcji znacznie obniżył emisję GHG i doprowadził do spadku cen uprawnień do emisji GHG (EUA) na ETS do poziomu nie stymulującego działań redukcyj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miany tej sytuacji wprowadzono przesuniecie części uprawnień z początku na koniec okresu (backloading), a teraz przygotowywane jest uprawnienie dla KE okresowego wycofywania z rynku takiej ilości uprawnień, żeby wymusić wysokie ceny E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Kryzys gospodarcz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43F6-141D-4700-9518-127F2D5A80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ska zrealizowała swoje zobowiązania z Kioto z dużym zapas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kcja emisji GHG jest kosztowna dla polskiej gospodarki z uwagi na wysoki udział węg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ska korzysta z mechanizmów kompensacyjnych w latach 2013 – 2020 i prawdopodobnie będzie korzystać z nich w latach 2021 – 2030 (derogacje CO2 i Fundusz Modernizacyj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zyskanie redukcji GHG w Polsce o 40% w stosunku do 1990 roku będzie wymagać redukcji o około 30% w stosunku do 2005 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ieczna będzie istotna zmiana struktury wytwarzania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ytuacja w Pols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F0A-23BA-4AA4-B02B-3CB2F72317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41B-40F9-4466-8056-3715D904E7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Globalna i unijna polityka klimaty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nijny 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Zmiany technologii wytwarzania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dd9c3"/>
                </a:solidFill>
                <a:latin typeface="Calibri"/>
              </a:rPr>
              <a:t>Podstawowe problemy okresu przejści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dd9c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a dyrektywa rynkowa z 2006 roku wymusiła odejście od monopoli w elektroenergetyce i rozpoczęła budowę wspólnego ry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zwiększenia efektywności już dwukrotnie była zastępowana przez kolejne dyrektywy, w 2003 i 2009 roku, wydawane są rozporządzenia, głównie dla regulacji przepływów granicznych, przygotowywane są kodeksy siecio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imo tych działań i wyznaczania kolejnych dat, unijny rynek energii nie może nabrać realnego kształtu, w ostatnich latach istotne zakłócenia w budowie unijnego rynku wprowadzają wysokie dotacje do OZ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Rozwój unijnego rynku energ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Zmiany w otoczeniu vs zmiany w elektroenergety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A41-A597-4A44-BB3F-6311CF33D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37:53Z</dcterms:created>
  <dc:creator>Stanisław Poręba, Jan Rakowski</dc:creator>
  <dc:description>Wersja 1.0., 15 maja 2015 r.</dc:description>
  <dc:language>en-US</dc:language>
  <cp:lastModifiedBy>Admin</cp:lastModifiedBy>
  <dcterms:modified xsi:type="dcterms:W3CDTF">2015-05-21T20:06:07Z</dcterms:modified>
  <cp:revision>274</cp:revision>
  <dc:subject/>
  <dc:title>Prezentacja dla TEW</dc:title>
</cp:coreProperties>
</file>